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CBD08E-66B4-467A-A210-2C81F1D82F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4DE089-A4FD-4A6A-8BC4-6C31A27C69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7DC90-7526-4EB3-96D6-81EA667B84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A81DC9-CC61-4484-BF57-38A3A96610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04C6F3-5502-427B-9C68-D59485C966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1F97C-3477-477E-B095-8315C608B1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D448D7-BFFA-41E9-BA85-DF56D06A98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7CE958-70E4-467D-ADFD-D3F6489510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01DE1A-52A5-4F64-A5C1-89D285DA72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D8EC9-2632-410C-9D21-E1DF70666C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302872-2C95-4801-BEE7-23D8F134BC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ABB2F8-94CE-4860-81A0-4CA8D672BD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F06F22-9EAE-462A-BFAE-98B92D639A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C9BE77-29D1-4049-8A8C-4D44A19023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90EF2E-0013-4339-9D46-2568CF4B3F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62BDC2-C7A7-4E67-A8BF-C0E156222A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2FD1B5-BF55-41F1-B33C-2CD0D904DB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DD65FB-228A-407A-A555-F3E677BBB5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FCBB7-3D1C-442C-A8C0-E916670FDE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67F03D-446B-4379-8657-4D74B230B4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ABF78F-A381-4827-A6CE-FCC9BA1C83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B760D2-F4FC-44B1-9E10-5A23B559F81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83FD5C-AAC8-42C5-912F-A37D97E966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65F796-0671-4850-BD4A-FCA487CDE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D8D1B7-0407-412F-B4AB-0AFC5A1D5CC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288992-B5EA-4FB9-8991-036D8E666A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A870CC-95BC-44F2-9D7A-FE33EB5CE1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7407-3566-4CCA-AD49-20CE7E9D7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4CFF-8ADE-47EE-A21F-4D66760F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BF5E-7F8D-465E-AA8C-C925FDE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7F4B-7FAB-440D-834F-9E934B652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84D8-0F69-44B7-897A-30DA4362C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0F05-CC1A-4C62-840B-AFCF60E4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DB3B-B3B5-463B-B1B3-3CB3F50C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2747B-29C2-4AC7-992A-AF1D8775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11780-2DE0-412C-8208-4B381A4F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EBBD1-D77D-4589-B3A7-5574A946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4515-F740-4740-8667-A138D542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850C-FECB-4605-B342-A3363E6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4B2DA-34F4-4282-8D69-85BE59B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AA11B-A1F1-4B0A-99EA-5D889A9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FDBC-DCD8-4F8B-B94D-F45B12A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E2B29-8FE5-4D9B-9AAD-55C4C0B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022E1-E913-4271-991A-AA0C2CD34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1864-053E-4C83-B0B5-8F40C6C4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8828-75CB-45B4-B1FC-D5DC3C9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E81C-4D15-4746-BECF-6CA1CAD6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46E3-FF8A-4B68-8CD0-E60C988B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2011-3A5C-4D90-BC6C-7453341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9C44-BDC8-48D5-9958-558E15B9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6B57-6F2C-433E-B0AE-8B841687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038772-67CD-451B-AC9B-F3FB23BCFD1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F6F6B2-D976-43C7-B3EA-9EA3F47A985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5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5 год по всем видам расходов  – 16 542,2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14200" y="1071720"/>
          <a:ext cx="8788680" cy="5430600"/>
        </p:xfrm>
        <a:graphic>
          <a:graphicData uri="http://schemas.openxmlformats.org/drawingml/2006/table">
            <a:tbl>
              <a:tblPr/>
              <a:tblGrid>
                <a:gridCol w="2909880"/>
                <a:gridCol w="1376640"/>
                <a:gridCol w="1423800"/>
                <a:gridCol w="1332000"/>
                <a:gridCol w="1746360"/>
              </a:tblGrid>
              <a:tr h="33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5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5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4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1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3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8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3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02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96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75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5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3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5 год сформированы и утверждены 13 муниципальных программ. Из них 9 муниципальных программ подлежат финансированию. На реализацию мероприятий муниципальных программ Бакланниковского сельского поселения в 2015 году первоначально предусмотрено 15056,1 тыс.рублей, то есть в программах сосредоточено 93,4 процента расходов бюджета поселения. В течении года за счет поступления сверхдоходов от поступления налоговых и неналоговых доходов, расходные обязательства муниципальных программ выросли на 610,4 тыс.рублей и составили 15666,5 тыс.рублей. Фактическое исполнение муниципальных программ по итогу года составило 15465,9 тыс.рублей или 98,7 процент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5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143000"/>
                <a:gridCol w="92880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а за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2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5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4200" y="1576440"/>
          <a:ext cx="8572680" cy="3138480"/>
        </p:xfrm>
        <a:graphic>
          <a:graphicData uri="http://schemas.openxmlformats.org/drawingml/2006/table">
            <a:tbl>
              <a:tblPr/>
              <a:tblGrid>
                <a:gridCol w="673200"/>
                <a:gridCol w="4113360"/>
                <a:gridCol w="1000080"/>
                <a:gridCol w="1214280"/>
                <a:gridCol w="857160"/>
                <a:gridCol w="714600"/>
              </a:tblGrid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а за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3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1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7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6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5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66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46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5 год по доходам исполнен в сумме 12339,1 тыс.рублей или 99,3 процента к годовому плану и по расходам в сумме 16542,2 тыс.рублей или 98,7 процентов. Дефицит по итогам исполнения бюджета за 2015 год составил 4203,1 тыс.руб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ыступили остатки бюджетных средств, сложившиеся на конец 2014 года и полученные в виде доходов от продажи земель сельскохозяйственного значения АО «Бакланниковское».  По сравнению с аналогичным периодом прошлого года наблюдается уменьшение поступления доходов в бюджет поселения на 6087,7 тыс.рублей или в 1,5 раза, по расходам исполнение увеличилось на 2344,3 тыс.рублей или в 1,2 р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устройство территори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Схема 5" descr=""/>
          <p:cNvPicPr/>
          <p:nvPr/>
        </p:nvPicPr>
        <p:blipFill>
          <a:blip r:embed="rId1"/>
          <a:stretch/>
        </p:blipFill>
        <p:spPr>
          <a:xfrm>
            <a:off x="353880" y="1755720"/>
            <a:ext cx="8582040" cy="5108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6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323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324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5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ходы бюджета Бакланниковского сельского поселения за 201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22400" y="1579680"/>
            <a:ext cx="8897760" cy="5270400"/>
            <a:chOff x="122400" y="1579680"/>
            <a:chExt cx="8897760" cy="527040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7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22400" y="1579680"/>
              <a:ext cx="889776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14920" y="2428920"/>
            <a:ext cx="128592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38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143160" y="2428920"/>
            <a:ext cx="12859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38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39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6858000" y="5500800"/>
            <a:ext cx="157176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7858080" y="4643280"/>
            <a:ext cx="114300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2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30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3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786120" y="5857920"/>
            <a:ext cx="142884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5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5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3300,2 тыс.рублей или 97,3 процентов к годовым назначениям. Данный показатель уменьшает уровень аналогичного периода прошлого года в 2,6 раза. На снижение поступления доходов в бюджет поселения повлияли отмена поступления с 01.01.2015 года доходов, получаемых в виде арендной платы за земельные участки, государственная собственность на которые не разграничена (50%), а также доходы от продажи земельных участков, государственная собственность на которые не разграничена (50%)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в структуре поступивших за 2015 год собственных доходов занимают доходы, получаемые в вид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ая составила 929,3 тыс.рублей или 28,2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ого налога, который составил 773,0 тыс.рублей или 23,4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а на доходы физических лиц, которая составила 797,1 тыс.рублей или 24,2 проц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00040" y="23760"/>
            <a:ext cx="82296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ление налоговых и неналоговых доходов за 2015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300,2 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 flipV="1">
            <a:off x="2124000" y="357192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4200" y="2000160"/>
            <a:ext cx="4082760" cy="569880"/>
            <a:chOff x="214200" y="2000160"/>
            <a:chExt cx="4082760" cy="569880"/>
          </a:xfrm>
        </p:grpSpPr>
        <p:sp>
          <p:nvSpPr>
            <p:cNvPr id="130" name="Rectangle 4"/>
            <p:cNvSpPr/>
            <p:nvPr/>
          </p:nvSpPr>
          <p:spPr>
            <a:xfrm>
              <a:off x="3011760" y="2000160"/>
              <a:ext cx="128520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061000" y="2000160"/>
              <a:ext cx="9518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083600" y="2000160"/>
              <a:ext cx="99792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4200" y="2000160"/>
              <a:ext cx="9406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2015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214200" y="2643120"/>
            <a:ext cx="4073760" cy="569880"/>
            <a:chOff x="214200" y="2643120"/>
            <a:chExt cx="4073760" cy="569880"/>
          </a:xfrm>
        </p:grpSpPr>
        <p:sp>
          <p:nvSpPr>
            <p:cNvPr id="135" name="Rectangle 9"/>
            <p:cNvSpPr/>
            <p:nvPr/>
          </p:nvSpPr>
          <p:spPr>
            <a:xfrm>
              <a:off x="3024360" y="2978280"/>
              <a:ext cx="1261800" cy="231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53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087640" y="2978280"/>
              <a:ext cx="934920" cy="23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7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1149480" y="2978280"/>
              <a:ext cx="938160" cy="23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18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214200" y="2978280"/>
              <a:ext cx="935280" cy="2314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97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14200" y="2643120"/>
              <a:ext cx="4071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214200" y="2643120"/>
              <a:ext cx="407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214200" y="3211560"/>
              <a:ext cx="407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21420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28616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948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208764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302436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22"/>
          <p:cNvSpPr/>
          <p:nvPr/>
        </p:nvSpPr>
        <p:spPr>
          <a:xfrm>
            <a:off x="3000240" y="3714840"/>
            <a:ext cx="1285920" cy="28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2071800" y="3714840"/>
            <a:ext cx="938160" cy="28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-559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1143000" y="3714840"/>
            <a:ext cx="93996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28600" y="3714840"/>
            <a:ext cx="925560" cy="285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29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4200" y="3357720"/>
            <a:ext cx="4067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УПЛАТЫ АКЦИЗОВ НА НЕФТЕ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214200" y="335772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21420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428616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214200" y="371484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1430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20718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8600" y="4567320"/>
            <a:ext cx="40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228600" y="491976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2357280" y="1784520"/>
            <a:ext cx="7858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 flipV="1">
            <a:off x="6070680" y="1784520"/>
            <a:ext cx="8604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8"/>
          <p:cNvGrpSpPr/>
          <p:nvPr/>
        </p:nvGrpSpPr>
        <p:grpSpPr>
          <a:xfrm>
            <a:off x="4857840" y="2714760"/>
            <a:ext cx="4065120" cy="1140840"/>
            <a:chOff x="4857840" y="2714760"/>
            <a:chExt cx="4065120" cy="1140840"/>
          </a:xfrm>
        </p:grpSpPr>
        <p:sp>
          <p:nvSpPr>
            <p:cNvPr id="163" name="Rectangle 39"/>
            <p:cNvSpPr/>
            <p:nvPr/>
          </p:nvSpPr>
          <p:spPr>
            <a:xfrm>
              <a:off x="7661880" y="3450600"/>
              <a:ext cx="1259280" cy="40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6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40"/>
            <p:cNvSpPr/>
            <p:nvPr/>
          </p:nvSpPr>
          <p:spPr>
            <a:xfrm>
              <a:off x="6727680" y="3450600"/>
              <a:ext cx="933840" cy="401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1117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5791680" y="3450600"/>
              <a:ext cx="935640" cy="40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1197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42"/>
            <p:cNvSpPr/>
            <p:nvPr/>
          </p:nvSpPr>
          <p:spPr>
            <a:xfrm>
              <a:off x="4857840" y="3450600"/>
              <a:ext cx="933840" cy="40176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9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3"/>
            <p:cNvSpPr/>
            <p:nvPr/>
          </p:nvSpPr>
          <p:spPr>
            <a:xfrm>
              <a:off x="4857840" y="2714760"/>
              <a:ext cx="4063680" cy="7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 ОТ ИСПОЛЬЗОВАНИЯ ИМУЩЕСТВА, НАХОДЯЩЕГОСЯ В ГОСУДАРСТВЕННОЙ И МУНИЦИПАЛЬНОЙ СОБСТВЕН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857840" y="3854520"/>
              <a:ext cx="4063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57840" y="2869560"/>
              <a:ext cx="10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>
              <a:off x="8921520" y="2869560"/>
              <a:ext cx="144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>
              <a:off x="4857840" y="34506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791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727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50"/>
            <p:cNvSpPr/>
            <p:nvPr/>
          </p:nvSpPr>
          <p:spPr>
            <a:xfrm>
              <a:off x="7661880" y="345060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Line 51"/>
          <p:cNvSpPr/>
          <p:nvPr/>
        </p:nvSpPr>
        <p:spPr>
          <a:xfrm>
            <a:off x="4859280" y="3833640"/>
            <a:ext cx="4067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4859280" y="498168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>
            <a:off x="4857840" y="4714920"/>
            <a:ext cx="40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14200" y="4071960"/>
            <a:ext cx="4065480" cy="566280"/>
            <a:chOff x="214200" y="4071960"/>
            <a:chExt cx="4065480" cy="566280"/>
          </a:xfrm>
        </p:grpSpPr>
        <p:sp>
          <p:nvSpPr>
            <p:cNvPr id="179" name="Rectangle 55"/>
            <p:cNvSpPr/>
            <p:nvPr/>
          </p:nvSpPr>
          <p:spPr>
            <a:xfrm>
              <a:off x="3018960" y="4404600"/>
              <a:ext cx="1259280" cy="230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 5,6 ра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2084400" y="4404600"/>
              <a:ext cx="934560" cy="23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37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148760" y="4404600"/>
              <a:ext cx="935640" cy="230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8"/>
            <p:cNvSpPr/>
            <p:nvPr/>
          </p:nvSpPr>
          <p:spPr>
            <a:xfrm>
              <a:off x="214200" y="4404600"/>
              <a:ext cx="934560" cy="2304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89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9"/>
            <p:cNvSpPr/>
            <p:nvPr/>
          </p:nvSpPr>
          <p:spPr>
            <a:xfrm>
              <a:off x="214200" y="4071960"/>
              <a:ext cx="4064400" cy="3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СОВОКУПНЫЙ ДОХО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214200" y="40719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214200" y="46371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214200" y="4071960"/>
              <a:ext cx="144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3"/>
            <p:cNvSpPr/>
            <p:nvPr/>
          </p:nvSpPr>
          <p:spPr>
            <a:xfrm>
              <a:off x="4278600" y="4071960"/>
              <a:ext cx="10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64"/>
            <p:cNvSpPr/>
            <p:nvPr/>
          </p:nvSpPr>
          <p:spPr>
            <a:xfrm>
              <a:off x="214200" y="4404600"/>
              <a:ext cx="406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1487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2084400" y="4404600"/>
              <a:ext cx="14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0189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68"/>
          <p:cNvGrpSpPr/>
          <p:nvPr/>
        </p:nvGrpSpPr>
        <p:grpSpPr>
          <a:xfrm>
            <a:off x="4857840" y="2000160"/>
            <a:ext cx="4069800" cy="569880"/>
            <a:chOff x="4857840" y="2000160"/>
            <a:chExt cx="4069800" cy="569880"/>
          </a:xfrm>
        </p:grpSpPr>
        <p:sp>
          <p:nvSpPr>
            <p:cNvPr id="193" name="Rectangle 69"/>
            <p:cNvSpPr/>
            <p:nvPr/>
          </p:nvSpPr>
          <p:spPr>
            <a:xfrm>
              <a:off x="7697880" y="2000160"/>
              <a:ext cx="122976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0"/>
            <p:cNvSpPr/>
            <p:nvPr/>
          </p:nvSpPr>
          <p:spPr>
            <a:xfrm>
              <a:off x="6731640" y="2000160"/>
              <a:ext cx="9644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1"/>
            <p:cNvSpPr/>
            <p:nvPr/>
          </p:nvSpPr>
          <p:spPr>
            <a:xfrm>
              <a:off x="5742720" y="2000160"/>
              <a:ext cx="98856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2"/>
            <p:cNvSpPr/>
            <p:nvPr/>
          </p:nvSpPr>
          <p:spPr>
            <a:xfrm>
              <a:off x="4857840" y="2000160"/>
              <a:ext cx="9532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 2015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73"/>
          <p:cNvSpPr/>
          <p:nvPr/>
        </p:nvSpPr>
        <p:spPr>
          <a:xfrm>
            <a:off x="4857840" y="3929040"/>
            <a:ext cx="406872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ОКАЗАНИЯ ПЛАТНЫХ УСЛУГ (РАБОТ) И КОМПЕНСАЦИИ ЗАТРАТ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4857840" y="4357800"/>
            <a:ext cx="925560" cy="3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1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5786280" y="4357800"/>
            <a:ext cx="939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6715080" y="4357800"/>
            <a:ext cx="928800" cy="31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1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7643880" y="4357800"/>
            <a:ext cx="1285920" cy="32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78"/>
          <p:cNvGrpSpPr/>
          <p:nvPr/>
        </p:nvGrpSpPr>
        <p:grpSpPr>
          <a:xfrm>
            <a:off x="214200" y="4714920"/>
            <a:ext cx="4065480" cy="640800"/>
            <a:chOff x="214200" y="4714920"/>
            <a:chExt cx="4065480" cy="640800"/>
          </a:xfrm>
        </p:grpSpPr>
        <p:sp>
          <p:nvSpPr>
            <p:cNvPr id="203" name="Rectangle 79"/>
            <p:cNvSpPr/>
            <p:nvPr/>
          </p:nvSpPr>
          <p:spPr>
            <a:xfrm>
              <a:off x="3018960" y="50922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34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0"/>
            <p:cNvSpPr/>
            <p:nvPr/>
          </p:nvSpPr>
          <p:spPr>
            <a:xfrm>
              <a:off x="2084400" y="509220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27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81"/>
            <p:cNvSpPr/>
            <p:nvPr/>
          </p:nvSpPr>
          <p:spPr>
            <a:xfrm>
              <a:off x="1148760" y="50922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5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2"/>
            <p:cNvSpPr/>
            <p:nvPr/>
          </p:nvSpPr>
          <p:spPr>
            <a:xfrm>
              <a:off x="214200" y="509220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7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83"/>
            <p:cNvSpPr/>
            <p:nvPr/>
          </p:nvSpPr>
          <p:spPr>
            <a:xfrm>
              <a:off x="214200" y="471492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ИМУЩ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84"/>
            <p:cNvSpPr/>
            <p:nvPr/>
          </p:nvSpPr>
          <p:spPr>
            <a:xfrm>
              <a:off x="214200" y="47149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5"/>
            <p:cNvSpPr/>
            <p:nvPr/>
          </p:nvSpPr>
          <p:spPr>
            <a:xfrm>
              <a:off x="214200" y="535464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86"/>
            <p:cNvSpPr/>
            <p:nvPr/>
          </p:nvSpPr>
          <p:spPr>
            <a:xfrm>
              <a:off x="214200" y="47149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4278600" y="47149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214200" y="50922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89"/>
            <p:cNvSpPr/>
            <p:nvPr/>
          </p:nvSpPr>
          <p:spPr>
            <a:xfrm>
              <a:off x="11487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90"/>
            <p:cNvSpPr/>
            <p:nvPr/>
          </p:nvSpPr>
          <p:spPr>
            <a:xfrm>
              <a:off x="2084400" y="50922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91"/>
            <p:cNvSpPr/>
            <p:nvPr/>
          </p:nvSpPr>
          <p:spPr>
            <a:xfrm>
              <a:off x="30189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92"/>
          <p:cNvGrpSpPr/>
          <p:nvPr/>
        </p:nvGrpSpPr>
        <p:grpSpPr>
          <a:xfrm>
            <a:off x="214200" y="5500800"/>
            <a:ext cx="4065480" cy="640800"/>
            <a:chOff x="214200" y="5500800"/>
            <a:chExt cx="4065480" cy="640800"/>
          </a:xfrm>
        </p:grpSpPr>
        <p:sp>
          <p:nvSpPr>
            <p:cNvPr id="217" name="Rectangle 93"/>
            <p:cNvSpPr/>
            <p:nvPr/>
          </p:nvSpPr>
          <p:spPr>
            <a:xfrm>
              <a:off x="2998080" y="5856120"/>
              <a:ext cx="125964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36,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94"/>
            <p:cNvSpPr/>
            <p:nvPr/>
          </p:nvSpPr>
          <p:spPr>
            <a:xfrm>
              <a:off x="2084400" y="587808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12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95"/>
            <p:cNvSpPr/>
            <p:nvPr/>
          </p:nvSpPr>
          <p:spPr>
            <a:xfrm>
              <a:off x="1148760" y="587808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4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6"/>
            <p:cNvSpPr/>
            <p:nvPr/>
          </p:nvSpPr>
          <p:spPr>
            <a:xfrm>
              <a:off x="214200" y="587808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7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97"/>
            <p:cNvSpPr/>
            <p:nvPr/>
          </p:nvSpPr>
          <p:spPr>
            <a:xfrm>
              <a:off x="214200" y="550080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СУДАРСТВЕННАЯ ПОШЛ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98"/>
            <p:cNvSpPr/>
            <p:nvPr/>
          </p:nvSpPr>
          <p:spPr>
            <a:xfrm>
              <a:off x="214200" y="55008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99"/>
            <p:cNvSpPr/>
            <p:nvPr/>
          </p:nvSpPr>
          <p:spPr>
            <a:xfrm>
              <a:off x="214200" y="61405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00"/>
            <p:cNvSpPr/>
            <p:nvPr/>
          </p:nvSpPr>
          <p:spPr>
            <a:xfrm>
              <a:off x="214200" y="550080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01"/>
            <p:cNvSpPr/>
            <p:nvPr/>
          </p:nvSpPr>
          <p:spPr>
            <a:xfrm>
              <a:off x="4278600" y="550080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02"/>
            <p:cNvSpPr/>
            <p:nvPr/>
          </p:nvSpPr>
          <p:spPr>
            <a:xfrm>
              <a:off x="214200" y="587808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03"/>
            <p:cNvSpPr/>
            <p:nvPr/>
          </p:nvSpPr>
          <p:spPr>
            <a:xfrm>
              <a:off x="11487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104"/>
            <p:cNvSpPr/>
            <p:nvPr/>
          </p:nvSpPr>
          <p:spPr>
            <a:xfrm>
              <a:off x="2084400" y="587808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05"/>
            <p:cNvSpPr/>
            <p:nvPr/>
          </p:nvSpPr>
          <p:spPr>
            <a:xfrm>
              <a:off x="30189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106"/>
          <p:cNvGrpSpPr/>
          <p:nvPr/>
        </p:nvGrpSpPr>
        <p:grpSpPr>
          <a:xfrm>
            <a:off x="4857840" y="4929120"/>
            <a:ext cx="4065120" cy="356760"/>
            <a:chOff x="4857840" y="4929120"/>
            <a:chExt cx="4065120" cy="356760"/>
          </a:xfrm>
        </p:grpSpPr>
        <p:sp>
          <p:nvSpPr>
            <p:cNvPr id="231" name="Rectangle 107"/>
            <p:cNvSpPr/>
            <p:nvPr/>
          </p:nvSpPr>
          <p:spPr>
            <a:xfrm>
              <a:off x="7661880" y="5139360"/>
              <a:ext cx="1259280" cy="145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8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08"/>
            <p:cNvSpPr/>
            <p:nvPr/>
          </p:nvSpPr>
          <p:spPr>
            <a:xfrm>
              <a:off x="6727680" y="5139360"/>
              <a:ext cx="933840" cy="1458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3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09"/>
            <p:cNvSpPr/>
            <p:nvPr/>
          </p:nvSpPr>
          <p:spPr>
            <a:xfrm>
              <a:off x="5791680" y="5139360"/>
              <a:ext cx="935640" cy="14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4857840" y="5139360"/>
              <a:ext cx="933840" cy="1458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857840" y="4929120"/>
              <a:ext cx="4063680" cy="21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12"/>
            <p:cNvSpPr/>
            <p:nvPr/>
          </p:nvSpPr>
          <p:spPr>
            <a:xfrm>
              <a:off x="4857840" y="492912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13"/>
            <p:cNvSpPr/>
            <p:nvPr/>
          </p:nvSpPr>
          <p:spPr>
            <a:xfrm>
              <a:off x="4857840" y="528516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14"/>
            <p:cNvSpPr/>
            <p:nvPr/>
          </p:nvSpPr>
          <p:spPr>
            <a:xfrm>
              <a:off x="4857840" y="4929120"/>
              <a:ext cx="1080" cy="35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15"/>
            <p:cNvSpPr/>
            <p:nvPr/>
          </p:nvSpPr>
          <p:spPr>
            <a:xfrm>
              <a:off x="8921520" y="4929120"/>
              <a:ext cx="1440" cy="35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16"/>
            <p:cNvSpPr/>
            <p:nvPr/>
          </p:nvSpPr>
          <p:spPr>
            <a:xfrm>
              <a:off x="4857840" y="513936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17"/>
            <p:cNvSpPr/>
            <p:nvPr/>
          </p:nvSpPr>
          <p:spPr>
            <a:xfrm>
              <a:off x="5791680" y="5139360"/>
              <a:ext cx="108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18"/>
            <p:cNvSpPr/>
            <p:nvPr/>
          </p:nvSpPr>
          <p:spPr>
            <a:xfrm>
              <a:off x="6727680" y="5139360"/>
              <a:ext cx="108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9"/>
            <p:cNvSpPr/>
            <p:nvPr/>
          </p:nvSpPr>
          <p:spPr>
            <a:xfrm>
              <a:off x="7661880" y="5139360"/>
              <a:ext cx="14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20"/>
          <p:cNvSpPr/>
          <p:nvPr/>
        </p:nvSpPr>
        <p:spPr>
          <a:xfrm>
            <a:off x="7429680" y="15001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6"/>
          <p:cNvGrpSpPr/>
          <p:nvPr/>
        </p:nvGrpSpPr>
        <p:grpSpPr>
          <a:xfrm>
            <a:off x="4857840" y="4786200"/>
            <a:ext cx="4068720" cy="785520"/>
            <a:chOff x="4857840" y="4786200"/>
            <a:chExt cx="4068720" cy="785520"/>
          </a:xfrm>
        </p:grpSpPr>
        <p:sp>
          <p:nvSpPr>
            <p:cNvPr id="246" name="Rectangle 107"/>
            <p:cNvSpPr/>
            <p:nvPr/>
          </p:nvSpPr>
          <p:spPr>
            <a:xfrm>
              <a:off x="7664400" y="5248440"/>
              <a:ext cx="1260360" cy="321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5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08"/>
            <p:cNvSpPr/>
            <p:nvPr/>
          </p:nvSpPr>
          <p:spPr>
            <a:xfrm>
              <a:off x="6729480" y="5248440"/>
              <a:ext cx="934920" cy="321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354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09"/>
            <p:cNvSpPr/>
            <p:nvPr/>
          </p:nvSpPr>
          <p:spPr>
            <a:xfrm>
              <a:off x="5792760" y="5248440"/>
              <a:ext cx="936720" cy="32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61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10"/>
            <p:cNvSpPr/>
            <p:nvPr/>
          </p:nvSpPr>
          <p:spPr>
            <a:xfrm>
              <a:off x="4857840" y="5248440"/>
              <a:ext cx="934920" cy="3211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56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11"/>
            <p:cNvSpPr/>
            <p:nvPr/>
          </p:nvSpPr>
          <p:spPr>
            <a:xfrm>
              <a:off x="4857840" y="4786200"/>
              <a:ext cx="406692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ОТ ПРОДАЖИ МАТЕРИАЛЬНЫХ И НЕМАТЕРИАЛЬНЫХ АКТИВ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12"/>
            <p:cNvSpPr/>
            <p:nvPr/>
          </p:nvSpPr>
          <p:spPr>
            <a:xfrm>
              <a:off x="4857840" y="478620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13"/>
            <p:cNvSpPr/>
            <p:nvPr/>
          </p:nvSpPr>
          <p:spPr>
            <a:xfrm>
              <a:off x="4857840" y="556956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14"/>
            <p:cNvSpPr/>
            <p:nvPr/>
          </p:nvSpPr>
          <p:spPr>
            <a:xfrm>
              <a:off x="4857840" y="4786200"/>
              <a:ext cx="1440" cy="78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15"/>
            <p:cNvSpPr/>
            <p:nvPr/>
          </p:nvSpPr>
          <p:spPr>
            <a:xfrm>
              <a:off x="8924760" y="4786200"/>
              <a:ext cx="1800" cy="78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16"/>
            <p:cNvSpPr/>
            <p:nvPr/>
          </p:nvSpPr>
          <p:spPr>
            <a:xfrm>
              <a:off x="4857840" y="524844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17"/>
            <p:cNvSpPr/>
            <p:nvPr/>
          </p:nvSpPr>
          <p:spPr>
            <a:xfrm>
              <a:off x="5792760" y="5248440"/>
              <a:ext cx="144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18"/>
            <p:cNvSpPr/>
            <p:nvPr/>
          </p:nvSpPr>
          <p:spPr>
            <a:xfrm>
              <a:off x="6729480" y="5248440"/>
              <a:ext cx="144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19"/>
            <p:cNvSpPr/>
            <p:nvPr/>
          </p:nvSpPr>
          <p:spPr>
            <a:xfrm>
              <a:off x="7664400" y="5248440"/>
              <a:ext cx="180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06"/>
          <p:cNvGrpSpPr/>
          <p:nvPr/>
        </p:nvGrpSpPr>
        <p:grpSpPr>
          <a:xfrm>
            <a:off x="4857840" y="5143680"/>
            <a:ext cx="4143240" cy="999720"/>
            <a:chOff x="4857840" y="5143680"/>
            <a:chExt cx="4143240" cy="999720"/>
          </a:xfrm>
        </p:grpSpPr>
        <p:sp>
          <p:nvSpPr>
            <p:cNvPr id="260" name="Rectangle 107"/>
            <p:cNvSpPr/>
            <p:nvPr/>
          </p:nvSpPr>
          <p:spPr>
            <a:xfrm>
              <a:off x="7664400" y="5843520"/>
              <a:ext cx="1260360" cy="297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,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08"/>
            <p:cNvSpPr/>
            <p:nvPr/>
          </p:nvSpPr>
          <p:spPr>
            <a:xfrm>
              <a:off x="6729480" y="5843520"/>
              <a:ext cx="934920" cy="297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09"/>
            <p:cNvSpPr/>
            <p:nvPr/>
          </p:nvSpPr>
          <p:spPr>
            <a:xfrm>
              <a:off x="5792760" y="5843520"/>
              <a:ext cx="936720" cy="297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0"/>
            <p:cNvSpPr/>
            <p:nvPr/>
          </p:nvSpPr>
          <p:spPr>
            <a:xfrm>
              <a:off x="4857840" y="5843520"/>
              <a:ext cx="934920" cy="2977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0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11"/>
            <p:cNvSpPr/>
            <p:nvPr/>
          </p:nvSpPr>
          <p:spPr>
            <a:xfrm>
              <a:off x="4857840" y="5572440"/>
              <a:ext cx="406692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2"/>
            <p:cNvSpPr/>
            <p:nvPr/>
          </p:nvSpPr>
          <p:spPr>
            <a:xfrm flipH="1" flipV="1">
              <a:off x="8924760" y="5416560"/>
              <a:ext cx="7632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3"/>
            <p:cNvSpPr/>
            <p:nvPr/>
          </p:nvSpPr>
          <p:spPr>
            <a:xfrm>
              <a:off x="4857840" y="6141600"/>
              <a:ext cx="406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4"/>
            <p:cNvSpPr/>
            <p:nvPr/>
          </p:nvSpPr>
          <p:spPr>
            <a:xfrm>
              <a:off x="4857840" y="5414400"/>
              <a:ext cx="144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5"/>
            <p:cNvSpPr/>
            <p:nvPr/>
          </p:nvSpPr>
          <p:spPr>
            <a:xfrm>
              <a:off x="8924760" y="5414400"/>
              <a:ext cx="180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6"/>
            <p:cNvSpPr/>
            <p:nvPr/>
          </p:nvSpPr>
          <p:spPr>
            <a:xfrm>
              <a:off x="4857840" y="5843520"/>
              <a:ext cx="406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7"/>
            <p:cNvSpPr/>
            <p:nvPr/>
          </p:nvSpPr>
          <p:spPr>
            <a:xfrm>
              <a:off x="5792760" y="5843520"/>
              <a:ext cx="144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8"/>
            <p:cNvSpPr/>
            <p:nvPr/>
          </p:nvSpPr>
          <p:spPr>
            <a:xfrm>
              <a:off x="7029360" y="5143680"/>
              <a:ext cx="46080" cy="14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9"/>
            <p:cNvSpPr/>
            <p:nvPr/>
          </p:nvSpPr>
          <p:spPr>
            <a:xfrm>
              <a:off x="7664400" y="5843520"/>
              <a:ext cx="180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28760" y="285840"/>
            <a:ext cx="84294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5 год исполнены в сумме 9038,9 тыс.рублей или 100 процентов к годовому пла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5 года Администрации поселения из областного и районного бюджетов были выделены средства по следующим направлениям расхо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тация бюджету поселения на выравнивание уровня бюджетной обеспеченности – 8485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осуществление первичного воинского учета на территориях где отсутствуют военные комиссариаты – 164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на содержание автомобильных дорог общего пользования местного значения – 281,214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на изготовление и установку мемориального комплекса участникам ВОВ в п.Н-Саловск – 100,0 тыс.рублей, исполнение составил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5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6-02-21T05:38:26Z</dcterms:modified>
  <cp:revision>287</cp:revision>
  <dc:subject/>
  <dc:title>Слайд 1</dc:title>
</cp:coreProperties>
</file>