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6742080" cy="987264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872640"/>
              <a:gd name="textAreaBottom" fmla="*/ 9872280 h 9872640"/>
            </a:gdLst>
            <a:ahLst/>
            <a:rect l="textAreaLeft" t="textAreaTop" r="textAreaRight" b="textAreaBottom"/>
            <a:pathLst>
              <a:path w="21600" h="31629">
                <a:moveTo>
                  <a:pt x="5" y="0"/>
                </a:moveTo>
                <a:arcTo wR="5" hR="5" stAng="16200000" swAng="-5400000"/>
                <a:lnTo>
                  <a:pt x="0" y="31624"/>
                </a:lnTo>
                <a:arcTo wR="5" hR="5" stAng="10800000" swAng="-5400000"/>
                <a:lnTo>
                  <a:pt x="21595" y="316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0" y="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dt" idx="5"/>
          </p:nvPr>
        </p:nvSpPr>
        <p:spPr>
          <a:xfrm>
            <a:off x="3817800" y="-360"/>
            <a:ext cx="292104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903240" y="739440"/>
            <a:ext cx="49341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1360" cy="4443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0" y="93790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3817800" y="9378720"/>
            <a:ext cx="292104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5F0BD6-1D95-4836-AA0F-93EE6CDFB91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97952F1-22C9-4DCF-B79A-9E22BBDD572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153951-9CD9-44AF-8688-7258DEF04EA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F339EC4-F21D-4931-A0AF-9E9BA1B1DB4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59332B-B711-4ADE-9B7D-625813687C3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3E2C12-5712-4922-89C0-61E1C1E0166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D63BFE-D02D-4CDF-8D2E-6F5E61DE27B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1AA7EF0-FCD5-4230-BF0A-800FDB75D7A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71E38F-CA17-4AE6-88E0-7109AB84B8C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192FF7F-E494-4A87-B26C-1422B292420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F838E9-FF57-462C-83CB-2F244E176E2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65C9F8-A535-4427-818F-FEB0F346A36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878048-3052-42EC-852A-8671D85C75C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7D37E4-B498-454A-8EAD-EF71991F15C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50BC06-61A9-4EBE-AED5-1F5E16A3F36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B78B8B4-742D-4497-8BF0-D1D38646972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DF3091-2AC5-4E60-B306-AD16AC3A69F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95A5A1-74B5-4716-BF9E-21EEB4B9D6D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672BAA-E2A3-4743-B36B-957256F694A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885F5A-D958-43CD-9AC9-38A322C4CD0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9DDD49-E40C-441C-9096-7031E5337F0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FE15BC-8FD2-4E3D-88EF-7CDE91B4196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EC2A22-B217-49B3-A992-C57C302677F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3817800" y="937908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7FD29B-DB8C-4CCC-8A04-9462390F5F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19DCA6-A043-4957-A4A3-A6196E31166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3817800" y="937908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0CBB715-0954-4EE9-99A4-94CDD4B7CA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0F3E5B6-EBD4-493D-99CD-75874C2850D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36B4F-6DB5-417A-BC8D-782CC63BDC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7C548-B365-4098-B483-E02605F0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1DBA1-79E1-4616-B9FF-EAA0FEA6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45762-1AFD-491C-BB6C-3B48107517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9B7D1-331C-4A03-A946-49CFC96C92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5DC2BA-BA8C-4040-957B-386573B4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6BF24-5794-489B-8E2C-E90C3235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B3F87-F1DC-4471-B2F6-0B59891F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3BF659-86DA-4B0D-86DD-057E9F117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F32D2-1901-4864-BA13-B0D508D28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2FB0C-BF2D-4A06-AB84-AAD9D880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8158E-CECD-4221-B1B9-0BF38D29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A3B9F-0D79-41D9-8F93-0A5A7071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3D93F3-89FA-49DC-8856-9FF479F7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E0647-2FF0-4916-B6D8-56AB016C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730295-F5E4-4784-ACF6-F3824F9C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A448D-9E54-412E-950C-20F81B388F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FDCA3-2E41-4F96-9485-A91D5835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430DE-630E-4133-A71E-21C74755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5DEC3-A822-4D42-8246-C37433551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6469C-5100-4D9C-977C-EF403491E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A982C-ABD0-48F9-AA57-DFC5029E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E29A5-6753-48E9-8228-7B2D9F7B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D68C3-DB98-453F-955B-59BFB4B3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B8FA863-1A74-4F07-8C2D-8757993CB3E5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7323E6F-8C41-4DE2-9E4C-8327A1E8EE3B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"/>
          <p:cNvGrpSpPr/>
          <p:nvPr/>
        </p:nvGrpSpPr>
        <p:grpSpPr>
          <a:xfrm>
            <a:off x="5437080" y="3651120"/>
            <a:ext cx="2998800" cy="2997360"/>
            <a:chOff x="5437080" y="3651120"/>
            <a:chExt cx="2998800" cy="2997360"/>
          </a:xfrm>
        </p:grpSpPr>
        <p:pic>
          <p:nvPicPr>
            <p:cNvPr id="91" name="Picture 2" descr=""/>
            <p:cNvPicPr/>
            <p:nvPr/>
          </p:nvPicPr>
          <p:blipFill>
            <a:blip r:embed="rId1"/>
            <a:stretch/>
          </p:blipFill>
          <p:spPr>
            <a:xfrm>
              <a:off x="5437080" y="3651120"/>
              <a:ext cx="2998800" cy="29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3"/>
            <p:cNvSpPr/>
            <p:nvPr/>
          </p:nvSpPr>
          <p:spPr>
            <a:xfrm>
              <a:off x="5437080" y="3651120"/>
              <a:ext cx="2998800" cy="29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" name="Text Box 4"/>
          <p:cNvSpPr/>
          <p:nvPr/>
        </p:nvSpPr>
        <p:spPr>
          <a:xfrm>
            <a:off x="428760" y="1163520"/>
            <a:ext cx="8229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ормация об исполнении бюджета Бакланниковского сельского поселения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  2015 го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714920" y="14292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857160" y="3786120"/>
            <a:ext cx="2643120" cy="2786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3"/>
          <p:cNvSpPr/>
          <p:nvPr/>
        </p:nvSpPr>
        <p:spPr>
          <a:xfrm>
            <a:off x="357120" y="1000080"/>
            <a:ext cx="835812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31859c">
                  <a:alpha val="6117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5"/>
          <p:cNvSpPr/>
          <p:nvPr/>
        </p:nvSpPr>
        <p:spPr>
          <a:xfrm>
            <a:off x="357120" y="103320"/>
            <a:ext cx="8429760" cy="103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5400000"/>
          </a:gra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ассовое исполнение бюджета Бакланниковского сельского поселения за 2015 год по всем видам расходов  – 16 542,2 тыс.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6929280" y="1643040"/>
            <a:ext cx="1714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Диаграмма 7" descr=""/>
          <p:cNvPicPr/>
          <p:nvPr/>
        </p:nvPicPr>
        <p:blipFill>
          <a:blip r:embed="rId1"/>
          <a:stretch/>
        </p:blipFill>
        <p:spPr>
          <a:xfrm>
            <a:off x="214200" y="1000080"/>
            <a:ext cx="871560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2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1"/>
          <p:cNvSpPr/>
          <p:nvPr/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  <a:ea typeface="Tahoma"/>
              </a:rPr>
              <a:t>Структура кассовых расход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214200" y="1071720"/>
          <a:ext cx="8788680" cy="5430600"/>
        </p:xfrm>
        <a:graphic>
          <a:graphicData uri="http://schemas.openxmlformats.org/drawingml/2006/table">
            <a:tbl>
              <a:tblPr/>
              <a:tblGrid>
                <a:gridCol w="2909880"/>
                <a:gridCol w="1376640"/>
                <a:gridCol w="1423800"/>
                <a:gridCol w="1332000"/>
                <a:gridCol w="1746360"/>
              </a:tblGrid>
              <a:tr h="333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015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исполн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за 2015 год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Справоч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ea typeface="Tahoma"/>
                        </a:rPr>
                        <a:t>Исп. 2015г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Исп. 2014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</a:tr>
              <a:tr h="125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Годовые плановы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знач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Кассовое  исполн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за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 481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 413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8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4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циональная оборо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4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4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1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35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07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6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7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 389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 335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6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0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 029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 968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8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1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Культура, кинематограф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 784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 784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38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8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8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2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Итого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 752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 542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8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6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3" name="Text Box 170"/>
          <p:cNvSpPr/>
          <p:nvPr/>
        </p:nvSpPr>
        <p:spPr>
          <a:xfrm>
            <a:off x="7643880" y="500040"/>
            <a:ext cx="13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тыс.рубл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0094"/>
            </a:gs>
            <a:gs pos="100000">
              <a:srgbClr val="00ff00"/>
            </a:gs>
          </a:gsLst>
          <a:lin ang="4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униципальные программы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акланниковского сельского посе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44120"/>
            <a:ext cx="822960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Администрацией Бакланниковского сельского поселения на 2015 год сформированы и утверждены 13 муниципальных программ. Из них 9 муниципальных программ подлежат финансированию. На реализацию мероприятий муниципальных программ Бакланниковского сельского поселения в 2015 году первоначально предусмотрено 15056,1 тыс.рублей, то есть в программах сосредоточено 93,4 процента расходов бюджета поселения. В течении года за счет поступления сверхдоходов от поступления налоговых и неналоговых доходов, расходные обязательства муниципальных программ выросли на 610,4 тыс.рублей и составили 15666,5 тыс.рублей. Фактическое исполнение муниципальных программ по итогу года составило 15465,9 тыс.рублей или 98,7 процентов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1"/>
          <p:cNvSpPr/>
          <p:nvPr/>
        </p:nvSpPr>
        <p:spPr>
          <a:xfrm>
            <a:off x="500040" y="-52560"/>
            <a:ext cx="82296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ых  программ, предусмотренных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 финансированию за счет средств бюджета Бакланниковского сельского поселения в 2015 году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7358040" y="1052640"/>
            <a:ext cx="15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тыс.рубл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285840" y="1397160"/>
          <a:ext cx="8643960" cy="5416560"/>
        </p:xfrm>
        <a:graphic>
          <a:graphicData uri="http://schemas.openxmlformats.org/drawingml/2006/table">
            <a:tbl>
              <a:tblPr/>
              <a:tblGrid>
                <a:gridCol w="500040"/>
                <a:gridCol w="4357800"/>
                <a:gridCol w="1071360"/>
                <a:gridCol w="1143000"/>
                <a:gridCol w="928800"/>
                <a:gridCol w="64296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муниципальной програм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оначальный план 2015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очненный план 2015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сса за 2015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исполн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еспечение качественными жилищно-коммунальными услугами населения Бакланниковского сельского поселения на 2014-2020 годы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6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6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3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3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еспечение общественного порядка на территории Бакланниковского сельского поселения на 2014-2020 г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щита населения и территории Бакланниковского сельского поселения от чрезвычайных ситуаций, обеспечение пожарной безопасности и безопасности людей  на водных объекта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6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0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0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культуры Бакланниковского сельского поселения на 2014-2020 г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26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84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84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храна окружающей среды и рациональное природопольз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физической культуры и спорта Бакланниковского сельского поселения на 2014-2020 г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1"/>
          <p:cNvSpPr/>
          <p:nvPr/>
        </p:nvSpPr>
        <p:spPr>
          <a:xfrm>
            <a:off x="500040" y="-52560"/>
            <a:ext cx="82296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                                    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должение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ых программ, предусмотренных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 финансированию за счет средств бюджета Бакланниковского сельского поселения в 2015 году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7286760" y="105264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тыс.рубл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214200" y="1576440"/>
          <a:ext cx="8572680" cy="3138480"/>
        </p:xfrm>
        <a:graphic>
          <a:graphicData uri="http://schemas.openxmlformats.org/drawingml/2006/table">
            <a:tbl>
              <a:tblPr/>
              <a:tblGrid>
                <a:gridCol w="673200"/>
                <a:gridCol w="4113360"/>
                <a:gridCol w="1000080"/>
                <a:gridCol w="1214280"/>
                <a:gridCol w="857160"/>
                <a:gridCol w="714600"/>
              </a:tblGrid>
              <a:tr h="94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муниципальной програм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ый план 2015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 2015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сса за 2015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исполн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транспортной систе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636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73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19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устройство территории Бакланниковского сельского поселения на 2014-2020 г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036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116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078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1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тика Бакланниковского сельского посел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977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865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807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муниципальными финансами Бакланниковского сельского поселения на 2014-2020 г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56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666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465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1"/>
          <p:cNvSpPr/>
          <p:nvPr/>
        </p:nvSpPr>
        <p:spPr>
          <a:xfrm>
            <a:off x="500040" y="214200"/>
            <a:ext cx="82296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й  программы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еспечение качественными жилищно-коммунальными услугами населения Бакланниковского сельского поселения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в 2015 году согласно утвержденных мероприятий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Схема 5" descr=""/>
          <p:cNvPicPr/>
          <p:nvPr/>
        </p:nvPicPr>
        <p:blipFill>
          <a:blip r:embed="rId1"/>
          <a:stretch/>
        </p:blipFill>
        <p:spPr>
          <a:xfrm>
            <a:off x="353880" y="1779480"/>
            <a:ext cx="8582040" cy="4224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1"/>
          <p:cNvSpPr/>
          <p:nvPr/>
        </p:nvSpPr>
        <p:spPr>
          <a:xfrm>
            <a:off x="50004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й  программы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щита населения и территории Бакланниковского сельского поселения от чрезвычайных ситуаций, обеспечение пожарной безопасности и безопасности людей на водных объектах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2015 году согласно утвержденных мероприятий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Схема 5" descr=""/>
          <p:cNvPicPr/>
          <p:nvPr/>
        </p:nvPicPr>
        <p:blipFill>
          <a:blip r:embed="rId1"/>
          <a:stretch/>
        </p:blipFill>
        <p:spPr>
          <a:xfrm>
            <a:off x="353880" y="2494080"/>
            <a:ext cx="8582040" cy="4370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1"/>
          <p:cNvSpPr/>
          <p:nvPr/>
        </p:nvSpPr>
        <p:spPr>
          <a:xfrm>
            <a:off x="50004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й  программы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витие культуры Бакланниковского сельского поселения»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2015 году согласно утвержденных мероприятий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Схема 5" descr=""/>
          <p:cNvPicPr/>
          <p:nvPr/>
        </p:nvPicPr>
        <p:blipFill>
          <a:blip r:embed="rId1"/>
          <a:stretch/>
        </p:blipFill>
        <p:spPr>
          <a:xfrm>
            <a:off x="353880" y="2494080"/>
            <a:ext cx="8582040" cy="4370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1"/>
          <p:cNvSpPr/>
          <p:nvPr/>
        </p:nvSpPr>
        <p:spPr>
          <a:xfrm>
            <a:off x="50004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й  программы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храна окружающей среды и рациональное природопользование Бакланниковского сельского поселения»      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2015 году согласно утвержденных мероприятий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Схема 5" descr=""/>
          <p:cNvPicPr/>
          <p:nvPr/>
        </p:nvPicPr>
        <p:blipFill>
          <a:blip r:embed="rId1"/>
          <a:stretch/>
        </p:blipFill>
        <p:spPr>
          <a:xfrm>
            <a:off x="353880" y="2494080"/>
            <a:ext cx="858204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1"/>
          <p:cNvSpPr/>
          <p:nvPr/>
        </p:nvSpPr>
        <p:spPr>
          <a:xfrm>
            <a:off x="50004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й  программы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витие транспортной системы в Бакланниковском сельском поселении»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2015 году согласно утвержденных мероприятий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Схема 5" descr=""/>
          <p:cNvPicPr/>
          <p:nvPr/>
        </p:nvPicPr>
        <p:blipFill>
          <a:blip r:embed="rId1"/>
          <a:stretch/>
        </p:blipFill>
        <p:spPr>
          <a:xfrm>
            <a:off x="353880" y="2494080"/>
            <a:ext cx="8582040" cy="4370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428760" y="642960"/>
            <a:ext cx="822960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 Бакланниковского сельского поселения за 2015 год по доходам исполнен в сумме 12339,1 тыс.рублей или 99,3 процента к годовому плану и по расходам в сумме 16542,2 тыс.рублей или 98,7 процентов. Дефицит по итогам исполнения бюджета за 2015 год составил 4203,1 тыс.рубле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 источниками финансирования дефицита бюджета поселения выступили остатки бюджетных средств, сложившиеся на конец 2014 года и полученные в виде доходов от продажи земель сельскохозяйственного значения АО «Бакланниковское».  По сравнению с аналогичным периодом прошлого года наблюдается уменьшение поступления доходов в бюджет поселения на 6087,7 тыс.рублей или в 1,5 раза, по расходам исполнение увеличилось на 2344,3 тыс.рублей или в 1,2 раз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714920" y="14292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1"/>
          <p:cNvSpPr/>
          <p:nvPr/>
        </p:nvSpPr>
        <p:spPr>
          <a:xfrm>
            <a:off x="50004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й  программы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лагоустройство территории Бакланниковского сельского поселения»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2015 году согласно утвержденных мероприятий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Схема 5" descr=""/>
          <p:cNvPicPr/>
          <p:nvPr/>
        </p:nvPicPr>
        <p:blipFill>
          <a:blip r:embed="rId1"/>
          <a:stretch/>
        </p:blipFill>
        <p:spPr>
          <a:xfrm>
            <a:off x="353880" y="1755720"/>
            <a:ext cx="8582040" cy="5108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1"/>
          <p:cNvSpPr/>
          <p:nvPr/>
        </p:nvSpPr>
        <p:spPr>
          <a:xfrm>
            <a:off x="50004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й  программы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литика Бакланниковского сельского поселения»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2015 году согласно утвержденных мероприятий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Схема 5" descr=""/>
          <p:cNvPicPr/>
          <p:nvPr/>
        </p:nvPicPr>
        <p:blipFill>
          <a:blip r:embed="rId1"/>
          <a:stretch/>
        </p:blipFill>
        <p:spPr>
          <a:xfrm>
            <a:off x="353880" y="2494080"/>
            <a:ext cx="8582040" cy="4370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1"/>
          <p:cNvSpPr/>
          <p:nvPr/>
        </p:nvSpPr>
        <p:spPr>
          <a:xfrm>
            <a:off x="50004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й  программы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правление муниципальными финансами Бакланниковского сельского поселения»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2015 году согласно утвержденных мероприятий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Схема 5" descr=""/>
          <p:cNvPicPr/>
          <p:nvPr/>
        </p:nvPicPr>
        <p:blipFill>
          <a:blip r:embed="rId1"/>
          <a:stretch/>
        </p:blipFill>
        <p:spPr>
          <a:xfrm>
            <a:off x="353880" y="2494080"/>
            <a:ext cx="8582040" cy="3297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3"/>
          <p:cNvSpPr/>
          <p:nvPr/>
        </p:nvSpPr>
        <p:spPr>
          <a:xfrm>
            <a:off x="571680" y="1143000"/>
            <a:ext cx="800100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31859c">
                  <a:alpha val="6117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5"/>
          <p:cNvSpPr/>
          <p:nvPr/>
        </p:nvSpPr>
        <p:spPr>
          <a:xfrm>
            <a:off x="285840" y="0"/>
            <a:ext cx="8569080" cy="716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5400000"/>
          </a:gra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оля остатков на лицевых счетах на 01 января 2016 г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Диаграмма 8" descr=""/>
          <p:cNvPicPr/>
          <p:nvPr/>
        </p:nvPicPr>
        <p:blipFill>
          <a:blip r:embed="rId1"/>
          <a:stretch/>
        </p:blipFill>
        <p:spPr>
          <a:xfrm>
            <a:off x="428760" y="1397160"/>
            <a:ext cx="8286480" cy="5032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" descr=""/>
          <p:cNvPicPr/>
          <p:nvPr/>
        </p:nvPicPr>
        <p:blipFill>
          <a:blip r:embed="rId1"/>
          <a:stretch/>
        </p:blipFill>
        <p:spPr>
          <a:xfrm>
            <a:off x="7429680" y="5357880"/>
            <a:ext cx="1571400" cy="1357200"/>
          </a:xfrm>
          <a:prstGeom prst="rect">
            <a:avLst/>
          </a:prstGeom>
          <a:ln w="50760">
            <a:solidFill>
              <a:srgbClr val="632523"/>
            </a:solidFill>
            <a:miter/>
          </a:ln>
        </p:spPr>
      </p:pic>
      <p:grpSp>
        <p:nvGrpSpPr>
          <p:cNvPr id="323" name="Group 2"/>
          <p:cNvGrpSpPr/>
          <p:nvPr/>
        </p:nvGrpSpPr>
        <p:grpSpPr>
          <a:xfrm>
            <a:off x="457200" y="1731960"/>
            <a:ext cx="8228160" cy="4260960"/>
            <a:chOff x="457200" y="1731960"/>
            <a:chExt cx="8228160" cy="4260960"/>
          </a:xfrm>
        </p:grpSpPr>
        <p:pic>
          <p:nvPicPr>
            <p:cNvPr id="324" name="Picture 3" descr=""/>
            <p:cNvPicPr/>
            <p:nvPr/>
          </p:nvPicPr>
          <p:blipFill>
            <a:blip r:embed="rId2"/>
            <a:stretch/>
          </p:blipFill>
          <p:spPr>
            <a:xfrm>
              <a:off x="457200" y="1731960"/>
              <a:ext cx="8228160" cy="42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Text Box 4"/>
            <p:cNvSpPr/>
            <p:nvPr/>
          </p:nvSpPr>
          <p:spPr>
            <a:xfrm>
              <a:off x="457200" y="1731960"/>
              <a:ext cx="8228160" cy="426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Text Box 5"/>
          <p:cNvSpPr/>
          <p:nvPr/>
        </p:nvSpPr>
        <p:spPr>
          <a:xfrm>
            <a:off x="4357800" y="214200"/>
            <a:ext cx="4529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ahoma"/>
                <a:ea typeface="Tahoma"/>
              </a:rPr>
              <a:t>Сектор экономики и финансов Администрации Бакланниковского сельского посе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5" dur="1000" autoRev="1" fill="hold"/>
                                        <p:tgtEl>
                                          <p:spTgt spid="3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8" dur="1" fill="hold"/>
                                  <p:tgtEl>
                                    <p:spTgt spid="3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428760" y="642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ДОХОДОВ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ивших в бюджет Бакланниковского сельского поселения за 2015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4714920" y="14292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Диаграмма 4" descr=""/>
          <p:cNvPicPr/>
          <p:nvPr/>
        </p:nvPicPr>
        <p:blipFill>
          <a:blip r:embed="rId1"/>
          <a:stretch/>
        </p:blipFill>
        <p:spPr>
          <a:xfrm>
            <a:off x="500040" y="2000160"/>
            <a:ext cx="8215200" cy="46436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571680" y="46188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ходы бюджета Бакланниковского сельского поселения за 2015 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2"/>
          <p:cNvGrpSpPr/>
          <p:nvPr/>
        </p:nvGrpSpPr>
        <p:grpSpPr>
          <a:xfrm>
            <a:off x="122400" y="1579680"/>
            <a:ext cx="8897760" cy="5270400"/>
            <a:chOff x="122400" y="1579680"/>
            <a:chExt cx="8897760" cy="5270400"/>
          </a:xfrm>
        </p:grpSpPr>
        <p:pic>
          <p:nvPicPr>
            <p:cNvPr id="103" name="Picture 3" descr=""/>
            <p:cNvPicPr/>
            <p:nvPr/>
          </p:nvPicPr>
          <p:blipFill>
            <a:blip r:embed="rId1"/>
            <a:stretch/>
          </p:blipFill>
          <p:spPr>
            <a:xfrm>
              <a:off x="122400" y="1579680"/>
              <a:ext cx="8897760" cy="527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4"/>
            <p:cNvSpPr/>
            <p:nvPr/>
          </p:nvSpPr>
          <p:spPr>
            <a:xfrm>
              <a:off x="122400" y="1579680"/>
              <a:ext cx="8897760" cy="527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AutoShape 5"/>
          <p:cNvSpPr/>
          <p:nvPr/>
        </p:nvSpPr>
        <p:spPr>
          <a:xfrm>
            <a:off x="3929040" y="3071880"/>
            <a:ext cx="1285920" cy="857160"/>
          </a:xfrm>
          <a:prstGeom prst="pi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4714920" y="2428920"/>
            <a:ext cx="1285920" cy="928800"/>
          </a:xfrm>
          <a:prstGeom prst="pie">
            <a:avLst/>
          </a:prstGeom>
          <a:solidFill>
            <a:srgbClr val="77933c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38,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3143160" y="2428920"/>
            <a:ext cx="1285920" cy="1000080"/>
          </a:xfrm>
          <a:prstGeom prst="pie">
            <a:avLst/>
          </a:prstGeom>
          <a:solidFill>
            <a:srgbClr val="558ed5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38,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214200" y="4643280"/>
            <a:ext cx="1143000" cy="1000440"/>
          </a:xfrm>
          <a:prstGeom prst="pie">
            <a:avLst/>
          </a:prstGeom>
          <a:solidFill>
            <a:srgbClr val="558ed5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39,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9"/>
          <p:cNvSpPr/>
          <p:nvPr/>
        </p:nvSpPr>
        <p:spPr>
          <a:xfrm>
            <a:off x="1571760" y="4643280"/>
            <a:ext cx="1214280" cy="1000440"/>
          </a:xfrm>
          <a:prstGeom prst="pie">
            <a:avLst/>
          </a:prstGeom>
          <a:solidFill>
            <a:srgbClr val="77933c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43,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0"/>
          <p:cNvSpPr/>
          <p:nvPr/>
        </p:nvSpPr>
        <p:spPr>
          <a:xfrm>
            <a:off x="785880" y="5643720"/>
            <a:ext cx="1357200" cy="785520"/>
          </a:xfrm>
          <a:prstGeom prst="pi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,8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6858000" y="5500800"/>
            <a:ext cx="1571760" cy="914400"/>
          </a:xfrm>
          <a:prstGeom prst="pi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,3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2"/>
          <p:cNvSpPr/>
          <p:nvPr/>
        </p:nvSpPr>
        <p:spPr>
          <a:xfrm>
            <a:off x="7858080" y="4643280"/>
            <a:ext cx="1143000" cy="1000440"/>
          </a:xfrm>
          <a:prstGeom prst="pie">
            <a:avLst/>
          </a:prstGeom>
          <a:solidFill>
            <a:srgbClr val="77933c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6,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13"/>
          <p:cNvSpPr/>
          <p:nvPr/>
        </p:nvSpPr>
        <p:spPr>
          <a:xfrm>
            <a:off x="6286680" y="4643280"/>
            <a:ext cx="1214280" cy="1000440"/>
          </a:xfrm>
          <a:prstGeom prst="pie">
            <a:avLst/>
          </a:prstGeom>
          <a:solidFill>
            <a:srgbClr val="558ed5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2,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14"/>
          <p:cNvSpPr/>
          <p:nvPr/>
        </p:nvSpPr>
        <p:spPr>
          <a:xfrm>
            <a:off x="3143160" y="5072040"/>
            <a:ext cx="1285920" cy="771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30,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15"/>
          <p:cNvSpPr/>
          <p:nvPr/>
        </p:nvSpPr>
        <p:spPr>
          <a:xfrm>
            <a:off x="4500720" y="5072040"/>
            <a:ext cx="1271520" cy="785880"/>
          </a:xfrm>
          <a:prstGeom prst="ellipse">
            <a:avLst/>
          </a:prstGeom>
          <a:solidFill>
            <a:srgbClr val="77933c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339,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16"/>
          <p:cNvSpPr/>
          <p:nvPr/>
        </p:nvSpPr>
        <p:spPr>
          <a:xfrm>
            <a:off x="3786120" y="5857920"/>
            <a:ext cx="1428840" cy="785880"/>
          </a:xfrm>
          <a:prstGeom prst="ellips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,3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7"/>
          <p:cNvSpPr/>
          <p:nvPr/>
        </p:nvSpPr>
        <p:spPr>
          <a:xfrm>
            <a:off x="214200" y="1500120"/>
            <a:ext cx="285840" cy="285840"/>
          </a:xfrm>
          <a:prstGeom prst="roundRect">
            <a:avLst>
              <a:gd name="adj" fmla="val 37843"/>
            </a:avLst>
          </a:prstGeom>
          <a:solidFill>
            <a:srgbClr val="558ed5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428760" y="15001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енный план на 2015г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9"/>
          <p:cNvSpPr/>
          <p:nvPr/>
        </p:nvSpPr>
        <p:spPr>
          <a:xfrm>
            <a:off x="214200" y="2000160"/>
            <a:ext cx="285840" cy="285840"/>
          </a:xfrm>
          <a:prstGeom prst="roundRect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0"/>
          <p:cNvSpPr/>
          <p:nvPr/>
        </p:nvSpPr>
        <p:spPr>
          <a:xfrm>
            <a:off x="428760" y="200016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  2015го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1"/>
          <p:cNvSpPr/>
          <p:nvPr/>
        </p:nvSpPr>
        <p:spPr>
          <a:xfrm>
            <a:off x="214200" y="2500200"/>
            <a:ext cx="285840" cy="285840"/>
          </a:xfrm>
          <a:prstGeom prst="roundRect">
            <a:avLst>
              <a:gd name="adj" fmla="val 49773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571680" y="2500200"/>
            <a:ext cx="25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% исполн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3"/>
          <p:cNvSpPr/>
          <p:nvPr/>
        </p:nvSpPr>
        <p:spPr>
          <a:xfrm>
            <a:off x="4929120" y="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571680" y="461880"/>
            <a:ext cx="822960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овые и неналоговые доходы бюджета Бакланниковского сельского поселения исполнены в сумме 3300,2 тыс.рублей или 97,3 процентов к годовым назначениям. Данный показатель уменьшает уровень аналогичного периода прошлого года в 2,6 раза. На снижение поступления доходов в бюджет поселения повлияли отмена поступления с 01.01.2015 года доходов, получаемых в виде арендной платы за земельные участки, государственная собственность на которые не разграничена (50%), а также доходы от продажи земельных участков, государственная собственность на которые не разграничена (50%)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ьший удельный вес в структуре поступивших за 2015 год собственных доходов занимают доходы, получаемые в виде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латы акцизов за нефтепродукты, которая составила 929,3 тыс.рублей или 28,2 процент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ельного налога, который составил 773,0 тыс.рублей или 23,4 процент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а на доходы физических лиц, которая составила 797,1 тыс.рублей или 24,2 процент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22400" y="1579680"/>
            <a:ext cx="8899200" cy="52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4929120" y="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500040" y="23760"/>
            <a:ext cx="8229600" cy="17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ступление налоговых и неналоговых доходов за 2015 год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300,2 тыс.руб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"/>
          <p:cNvSpPr/>
          <p:nvPr/>
        </p:nvSpPr>
        <p:spPr>
          <a:xfrm flipV="1">
            <a:off x="2124000" y="3571920"/>
            <a:ext cx="1800" cy="21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Group 3"/>
          <p:cNvGrpSpPr/>
          <p:nvPr/>
        </p:nvGrpSpPr>
        <p:grpSpPr>
          <a:xfrm>
            <a:off x="214200" y="2000160"/>
            <a:ext cx="4082760" cy="569880"/>
            <a:chOff x="214200" y="2000160"/>
            <a:chExt cx="4082760" cy="569880"/>
          </a:xfrm>
        </p:grpSpPr>
        <p:sp>
          <p:nvSpPr>
            <p:cNvPr id="130" name="Rectangle 4"/>
            <p:cNvSpPr/>
            <p:nvPr/>
          </p:nvSpPr>
          <p:spPr>
            <a:xfrm>
              <a:off x="3011760" y="2000160"/>
              <a:ext cx="1285200" cy="56988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% исполнения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5"/>
            <p:cNvSpPr/>
            <p:nvPr/>
          </p:nvSpPr>
          <p:spPr>
            <a:xfrm>
              <a:off x="2061000" y="2000160"/>
              <a:ext cx="951840" cy="5698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Calibri"/>
                </a:rPr>
                <a:t>Отклонени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6"/>
            <p:cNvSpPr/>
            <p:nvPr/>
          </p:nvSpPr>
          <p:spPr>
            <a:xfrm>
              <a:off x="1083600" y="2000160"/>
              <a:ext cx="997920" cy="569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Факт за         2014 год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7"/>
            <p:cNvSpPr/>
            <p:nvPr/>
          </p:nvSpPr>
          <p:spPr>
            <a:xfrm>
              <a:off x="214200" y="2000160"/>
              <a:ext cx="940680" cy="569880"/>
            </a:xfrm>
            <a:prstGeom prst="rect">
              <a:avLst/>
            </a:prstGeom>
            <a:solidFill>
              <a:srgbClr val="c3d69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Факт за       2015 год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Group 8"/>
          <p:cNvGrpSpPr/>
          <p:nvPr/>
        </p:nvGrpSpPr>
        <p:grpSpPr>
          <a:xfrm>
            <a:off x="214200" y="2643120"/>
            <a:ext cx="4073760" cy="569880"/>
            <a:chOff x="214200" y="2643120"/>
            <a:chExt cx="4073760" cy="569880"/>
          </a:xfrm>
        </p:grpSpPr>
        <p:sp>
          <p:nvSpPr>
            <p:cNvPr id="135" name="Rectangle 9"/>
            <p:cNvSpPr/>
            <p:nvPr/>
          </p:nvSpPr>
          <p:spPr>
            <a:xfrm>
              <a:off x="3024360" y="2978280"/>
              <a:ext cx="1261800" cy="231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153,9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10"/>
            <p:cNvSpPr/>
            <p:nvPr/>
          </p:nvSpPr>
          <p:spPr>
            <a:xfrm>
              <a:off x="2087640" y="2978280"/>
              <a:ext cx="934920" cy="2314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Calibri"/>
                </a:rPr>
                <a:t>279,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11"/>
            <p:cNvSpPr/>
            <p:nvPr/>
          </p:nvSpPr>
          <p:spPr>
            <a:xfrm>
              <a:off x="1149480" y="2978280"/>
              <a:ext cx="938160" cy="2314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518,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12"/>
            <p:cNvSpPr/>
            <p:nvPr/>
          </p:nvSpPr>
          <p:spPr>
            <a:xfrm>
              <a:off x="214200" y="2978280"/>
              <a:ext cx="935280" cy="231480"/>
            </a:xfrm>
            <a:prstGeom prst="rect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797,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13"/>
            <p:cNvSpPr/>
            <p:nvPr/>
          </p:nvSpPr>
          <p:spPr>
            <a:xfrm>
              <a:off x="214200" y="2643120"/>
              <a:ext cx="407196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НАЛОГ НА ДОХОДЫ ФИЗИЧЕСКИХ ЛИЦ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14"/>
            <p:cNvSpPr/>
            <p:nvPr/>
          </p:nvSpPr>
          <p:spPr>
            <a:xfrm>
              <a:off x="214200" y="2643120"/>
              <a:ext cx="4071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15"/>
            <p:cNvSpPr/>
            <p:nvPr/>
          </p:nvSpPr>
          <p:spPr>
            <a:xfrm>
              <a:off x="214200" y="3211560"/>
              <a:ext cx="4071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16"/>
            <p:cNvSpPr/>
            <p:nvPr/>
          </p:nvSpPr>
          <p:spPr>
            <a:xfrm>
              <a:off x="214200" y="2643120"/>
              <a:ext cx="180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7"/>
            <p:cNvSpPr/>
            <p:nvPr/>
          </p:nvSpPr>
          <p:spPr>
            <a:xfrm>
              <a:off x="4286160" y="2643120"/>
              <a:ext cx="180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19"/>
            <p:cNvSpPr/>
            <p:nvPr/>
          </p:nvSpPr>
          <p:spPr>
            <a:xfrm>
              <a:off x="1149480" y="2978280"/>
              <a:ext cx="1440" cy="23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20"/>
            <p:cNvSpPr/>
            <p:nvPr/>
          </p:nvSpPr>
          <p:spPr>
            <a:xfrm>
              <a:off x="2087640" y="2978280"/>
              <a:ext cx="1440" cy="23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21"/>
            <p:cNvSpPr/>
            <p:nvPr/>
          </p:nvSpPr>
          <p:spPr>
            <a:xfrm>
              <a:off x="3024360" y="2978280"/>
              <a:ext cx="1440" cy="23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Rectangle 22"/>
          <p:cNvSpPr/>
          <p:nvPr/>
        </p:nvSpPr>
        <p:spPr>
          <a:xfrm>
            <a:off x="3000240" y="3714840"/>
            <a:ext cx="1285920" cy="2858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2,4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23"/>
          <p:cNvSpPr/>
          <p:nvPr/>
        </p:nvSpPr>
        <p:spPr>
          <a:xfrm>
            <a:off x="2071800" y="3714840"/>
            <a:ext cx="938160" cy="285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-559,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24"/>
          <p:cNvSpPr/>
          <p:nvPr/>
        </p:nvSpPr>
        <p:spPr>
          <a:xfrm>
            <a:off x="1143000" y="3714840"/>
            <a:ext cx="939960" cy="285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88,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25"/>
          <p:cNvSpPr/>
          <p:nvPr/>
        </p:nvSpPr>
        <p:spPr>
          <a:xfrm>
            <a:off x="228600" y="3714840"/>
            <a:ext cx="925560" cy="28584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929,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26"/>
          <p:cNvSpPr/>
          <p:nvPr/>
        </p:nvSpPr>
        <p:spPr>
          <a:xfrm>
            <a:off x="214200" y="3357720"/>
            <a:ext cx="4067280" cy="35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ХОДЫ ОТ УПЛАТЫ АКЦИЗОВ НА НЕФТЕПРОДУК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27"/>
          <p:cNvSpPr/>
          <p:nvPr/>
        </p:nvSpPr>
        <p:spPr>
          <a:xfrm>
            <a:off x="214200" y="3357720"/>
            <a:ext cx="4067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28"/>
          <p:cNvSpPr/>
          <p:nvPr/>
        </p:nvSpPr>
        <p:spPr>
          <a:xfrm>
            <a:off x="214200" y="3357720"/>
            <a:ext cx="1800" cy="59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29"/>
          <p:cNvSpPr/>
          <p:nvPr/>
        </p:nvSpPr>
        <p:spPr>
          <a:xfrm>
            <a:off x="4286160" y="3357720"/>
            <a:ext cx="1800" cy="59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30"/>
          <p:cNvSpPr/>
          <p:nvPr/>
        </p:nvSpPr>
        <p:spPr>
          <a:xfrm>
            <a:off x="214200" y="3714840"/>
            <a:ext cx="4067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31"/>
          <p:cNvSpPr/>
          <p:nvPr/>
        </p:nvSpPr>
        <p:spPr>
          <a:xfrm>
            <a:off x="1143000" y="3714840"/>
            <a:ext cx="1440" cy="24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32"/>
          <p:cNvSpPr/>
          <p:nvPr/>
        </p:nvSpPr>
        <p:spPr>
          <a:xfrm>
            <a:off x="2071800" y="3714840"/>
            <a:ext cx="1440" cy="24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33"/>
          <p:cNvSpPr/>
          <p:nvPr/>
        </p:nvSpPr>
        <p:spPr>
          <a:xfrm>
            <a:off x="228600" y="4567320"/>
            <a:ext cx="4067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34"/>
          <p:cNvSpPr/>
          <p:nvPr/>
        </p:nvSpPr>
        <p:spPr>
          <a:xfrm>
            <a:off x="228600" y="4919760"/>
            <a:ext cx="40672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36"/>
          <p:cNvSpPr/>
          <p:nvPr/>
        </p:nvSpPr>
        <p:spPr>
          <a:xfrm flipV="1">
            <a:off x="2357280" y="1784520"/>
            <a:ext cx="7858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37"/>
          <p:cNvSpPr/>
          <p:nvPr/>
        </p:nvSpPr>
        <p:spPr>
          <a:xfrm flipH="1" flipV="1">
            <a:off x="6070680" y="1784520"/>
            <a:ext cx="8604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38"/>
          <p:cNvGrpSpPr/>
          <p:nvPr/>
        </p:nvGrpSpPr>
        <p:grpSpPr>
          <a:xfrm>
            <a:off x="4857840" y="2714760"/>
            <a:ext cx="4065120" cy="1140840"/>
            <a:chOff x="4857840" y="2714760"/>
            <a:chExt cx="4065120" cy="1140840"/>
          </a:xfrm>
        </p:grpSpPr>
        <p:sp>
          <p:nvSpPr>
            <p:cNvPr id="163" name="Rectangle 39"/>
            <p:cNvSpPr/>
            <p:nvPr/>
          </p:nvSpPr>
          <p:spPr>
            <a:xfrm>
              <a:off x="7661880" y="3450600"/>
              <a:ext cx="1259280" cy="4017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6,6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40"/>
            <p:cNvSpPr/>
            <p:nvPr/>
          </p:nvSpPr>
          <p:spPr>
            <a:xfrm>
              <a:off x="6727680" y="3450600"/>
              <a:ext cx="933840" cy="4017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Calibri"/>
                </a:rPr>
                <a:t>-1117,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41"/>
            <p:cNvSpPr/>
            <p:nvPr/>
          </p:nvSpPr>
          <p:spPr>
            <a:xfrm>
              <a:off x="5791680" y="3450600"/>
              <a:ext cx="935640" cy="4017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alibri"/>
                </a:rPr>
                <a:t>1197,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42"/>
            <p:cNvSpPr/>
            <p:nvPr/>
          </p:nvSpPr>
          <p:spPr>
            <a:xfrm>
              <a:off x="4857840" y="3450600"/>
              <a:ext cx="933840" cy="401760"/>
            </a:xfrm>
            <a:prstGeom prst="rect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79,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43"/>
            <p:cNvSpPr/>
            <p:nvPr/>
          </p:nvSpPr>
          <p:spPr>
            <a:xfrm>
              <a:off x="4857840" y="2714760"/>
              <a:ext cx="4063680" cy="759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ДОХОДЫ  ОТ ИСПОЛЬЗОВАНИЯ ИМУЩЕСТВА, НАХОДЯЩЕГОСЯ В ГОСУДАРСТВЕННОЙ И МУНИЦИПАЛЬНОЙ СОБСТВЕННОСТ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Line 44"/>
            <p:cNvSpPr/>
            <p:nvPr/>
          </p:nvSpPr>
          <p:spPr>
            <a:xfrm>
              <a:off x="4857840" y="3854520"/>
              <a:ext cx="4063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45"/>
            <p:cNvSpPr/>
            <p:nvPr/>
          </p:nvSpPr>
          <p:spPr>
            <a:xfrm>
              <a:off x="4857840" y="2869560"/>
              <a:ext cx="1080" cy="9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46"/>
            <p:cNvSpPr/>
            <p:nvPr/>
          </p:nvSpPr>
          <p:spPr>
            <a:xfrm>
              <a:off x="8921520" y="2869560"/>
              <a:ext cx="1440" cy="9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47"/>
            <p:cNvSpPr/>
            <p:nvPr/>
          </p:nvSpPr>
          <p:spPr>
            <a:xfrm>
              <a:off x="4857840" y="3450600"/>
              <a:ext cx="4063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48"/>
            <p:cNvSpPr/>
            <p:nvPr/>
          </p:nvSpPr>
          <p:spPr>
            <a:xfrm>
              <a:off x="5791680" y="3450600"/>
              <a:ext cx="1080" cy="40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49"/>
            <p:cNvSpPr/>
            <p:nvPr/>
          </p:nvSpPr>
          <p:spPr>
            <a:xfrm>
              <a:off x="6727680" y="3450600"/>
              <a:ext cx="1080" cy="40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50"/>
            <p:cNvSpPr/>
            <p:nvPr/>
          </p:nvSpPr>
          <p:spPr>
            <a:xfrm>
              <a:off x="7661880" y="3450600"/>
              <a:ext cx="1440" cy="40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Line 51"/>
          <p:cNvSpPr/>
          <p:nvPr/>
        </p:nvSpPr>
        <p:spPr>
          <a:xfrm>
            <a:off x="4859280" y="3833640"/>
            <a:ext cx="4067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52"/>
          <p:cNvSpPr/>
          <p:nvPr/>
        </p:nvSpPr>
        <p:spPr>
          <a:xfrm>
            <a:off x="4859280" y="4981680"/>
            <a:ext cx="40672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53"/>
          <p:cNvSpPr/>
          <p:nvPr/>
        </p:nvSpPr>
        <p:spPr>
          <a:xfrm>
            <a:off x="4857840" y="4714920"/>
            <a:ext cx="4066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Group 54"/>
          <p:cNvGrpSpPr/>
          <p:nvPr/>
        </p:nvGrpSpPr>
        <p:grpSpPr>
          <a:xfrm>
            <a:off x="214200" y="4071960"/>
            <a:ext cx="4065480" cy="566280"/>
            <a:chOff x="214200" y="4071960"/>
            <a:chExt cx="4065480" cy="566280"/>
          </a:xfrm>
        </p:grpSpPr>
        <p:sp>
          <p:nvSpPr>
            <p:cNvPr id="179" name="Rectangle 55"/>
            <p:cNvSpPr/>
            <p:nvPr/>
          </p:nvSpPr>
          <p:spPr>
            <a:xfrm>
              <a:off x="3018960" y="4404600"/>
              <a:ext cx="1259280" cy="2304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в 5,6 раз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56"/>
            <p:cNvSpPr/>
            <p:nvPr/>
          </p:nvSpPr>
          <p:spPr>
            <a:xfrm>
              <a:off x="2084400" y="4404600"/>
              <a:ext cx="934560" cy="230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Calibri"/>
                </a:rPr>
                <a:t>237,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Rectangle 57"/>
            <p:cNvSpPr/>
            <p:nvPr/>
          </p:nvSpPr>
          <p:spPr>
            <a:xfrm>
              <a:off x="1148760" y="4404600"/>
              <a:ext cx="935640" cy="230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52,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58"/>
            <p:cNvSpPr/>
            <p:nvPr/>
          </p:nvSpPr>
          <p:spPr>
            <a:xfrm>
              <a:off x="214200" y="4404600"/>
              <a:ext cx="934560" cy="230400"/>
            </a:xfrm>
            <a:prstGeom prst="rect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289,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59"/>
            <p:cNvSpPr/>
            <p:nvPr/>
          </p:nvSpPr>
          <p:spPr>
            <a:xfrm>
              <a:off x="214200" y="4071960"/>
              <a:ext cx="4064400" cy="33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НАЛОГИ НА СОВОКУПНЫЙ ДОХО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60"/>
            <p:cNvSpPr/>
            <p:nvPr/>
          </p:nvSpPr>
          <p:spPr>
            <a:xfrm>
              <a:off x="214200" y="4071960"/>
              <a:ext cx="40644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61"/>
            <p:cNvSpPr/>
            <p:nvPr/>
          </p:nvSpPr>
          <p:spPr>
            <a:xfrm>
              <a:off x="214200" y="4637160"/>
              <a:ext cx="40644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62"/>
            <p:cNvSpPr/>
            <p:nvPr/>
          </p:nvSpPr>
          <p:spPr>
            <a:xfrm>
              <a:off x="214200" y="4071960"/>
              <a:ext cx="1440" cy="56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63"/>
            <p:cNvSpPr/>
            <p:nvPr/>
          </p:nvSpPr>
          <p:spPr>
            <a:xfrm>
              <a:off x="4278600" y="4071960"/>
              <a:ext cx="1080" cy="56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64"/>
            <p:cNvSpPr/>
            <p:nvPr/>
          </p:nvSpPr>
          <p:spPr>
            <a:xfrm>
              <a:off x="214200" y="4404600"/>
              <a:ext cx="406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65"/>
            <p:cNvSpPr/>
            <p:nvPr/>
          </p:nvSpPr>
          <p:spPr>
            <a:xfrm>
              <a:off x="1148760" y="4404600"/>
              <a:ext cx="1080" cy="23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66"/>
            <p:cNvSpPr/>
            <p:nvPr/>
          </p:nvSpPr>
          <p:spPr>
            <a:xfrm>
              <a:off x="2084400" y="4404600"/>
              <a:ext cx="1440" cy="23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67"/>
            <p:cNvSpPr/>
            <p:nvPr/>
          </p:nvSpPr>
          <p:spPr>
            <a:xfrm>
              <a:off x="3018960" y="4404600"/>
              <a:ext cx="1080" cy="23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2" name="Group 68"/>
          <p:cNvGrpSpPr/>
          <p:nvPr/>
        </p:nvGrpSpPr>
        <p:grpSpPr>
          <a:xfrm>
            <a:off x="4857840" y="2000160"/>
            <a:ext cx="4069800" cy="569880"/>
            <a:chOff x="4857840" y="2000160"/>
            <a:chExt cx="4069800" cy="569880"/>
          </a:xfrm>
        </p:grpSpPr>
        <p:sp>
          <p:nvSpPr>
            <p:cNvPr id="193" name="Rectangle 69"/>
            <p:cNvSpPr/>
            <p:nvPr/>
          </p:nvSpPr>
          <p:spPr>
            <a:xfrm>
              <a:off x="7697880" y="2000160"/>
              <a:ext cx="1229760" cy="56988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% исполнения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Rectangle 70"/>
            <p:cNvSpPr/>
            <p:nvPr/>
          </p:nvSpPr>
          <p:spPr>
            <a:xfrm>
              <a:off x="6731640" y="2000160"/>
              <a:ext cx="964440" cy="5698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Calibri"/>
                </a:rPr>
                <a:t>Отклонени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71"/>
            <p:cNvSpPr/>
            <p:nvPr/>
          </p:nvSpPr>
          <p:spPr>
            <a:xfrm>
              <a:off x="5742720" y="2000160"/>
              <a:ext cx="988560" cy="569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Факт за       2014 год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72"/>
            <p:cNvSpPr/>
            <p:nvPr/>
          </p:nvSpPr>
          <p:spPr>
            <a:xfrm>
              <a:off x="4857840" y="2000160"/>
              <a:ext cx="953280" cy="569880"/>
            </a:xfrm>
            <a:prstGeom prst="rect">
              <a:avLst/>
            </a:prstGeom>
            <a:solidFill>
              <a:srgbClr val="c3d69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Факт за        2015 год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Rectangle 73"/>
          <p:cNvSpPr/>
          <p:nvPr/>
        </p:nvSpPr>
        <p:spPr>
          <a:xfrm>
            <a:off x="4857840" y="3929040"/>
            <a:ext cx="4068720" cy="42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ХОДЫ ОТ ОКАЗАНИЯ ПЛАТНЫХ УСЛУГ (РАБОТ) И КОМПЕНСАЦИИ ЗАТРАТ ГОСУДАР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74"/>
          <p:cNvSpPr/>
          <p:nvPr/>
        </p:nvSpPr>
        <p:spPr>
          <a:xfrm>
            <a:off x="4857840" y="4357800"/>
            <a:ext cx="925560" cy="314280"/>
          </a:xfrm>
          <a:prstGeom prst="rect">
            <a:avLst/>
          </a:prstGeom>
          <a:solidFill>
            <a:srgbClr val="c3d69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1,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75"/>
          <p:cNvSpPr/>
          <p:nvPr/>
        </p:nvSpPr>
        <p:spPr>
          <a:xfrm>
            <a:off x="5786280" y="4357800"/>
            <a:ext cx="939960" cy="314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0,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76"/>
          <p:cNvSpPr/>
          <p:nvPr/>
        </p:nvSpPr>
        <p:spPr>
          <a:xfrm>
            <a:off x="6715080" y="4357800"/>
            <a:ext cx="928800" cy="3142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21,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77"/>
          <p:cNvSpPr/>
          <p:nvPr/>
        </p:nvSpPr>
        <p:spPr>
          <a:xfrm>
            <a:off x="7643880" y="4357800"/>
            <a:ext cx="1285920" cy="3236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0,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Group 78"/>
          <p:cNvGrpSpPr/>
          <p:nvPr/>
        </p:nvGrpSpPr>
        <p:grpSpPr>
          <a:xfrm>
            <a:off x="214200" y="4714920"/>
            <a:ext cx="4065480" cy="640800"/>
            <a:chOff x="214200" y="4714920"/>
            <a:chExt cx="4065480" cy="640800"/>
          </a:xfrm>
        </p:grpSpPr>
        <p:sp>
          <p:nvSpPr>
            <p:cNvPr id="203" name="Rectangle 79"/>
            <p:cNvSpPr/>
            <p:nvPr/>
          </p:nvSpPr>
          <p:spPr>
            <a:xfrm>
              <a:off x="3018960" y="5092200"/>
              <a:ext cx="1259280" cy="2620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134,9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80"/>
            <p:cNvSpPr/>
            <p:nvPr/>
          </p:nvSpPr>
          <p:spPr>
            <a:xfrm>
              <a:off x="2084400" y="5092200"/>
              <a:ext cx="934560" cy="2620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Calibri"/>
                </a:rPr>
                <a:t>227,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81"/>
            <p:cNvSpPr/>
            <p:nvPr/>
          </p:nvSpPr>
          <p:spPr>
            <a:xfrm>
              <a:off x="1148760" y="5092200"/>
              <a:ext cx="935640" cy="26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652,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82"/>
            <p:cNvSpPr/>
            <p:nvPr/>
          </p:nvSpPr>
          <p:spPr>
            <a:xfrm>
              <a:off x="214200" y="5092200"/>
              <a:ext cx="934560" cy="262080"/>
            </a:xfrm>
            <a:prstGeom prst="rect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879,9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Rectangle 83"/>
            <p:cNvSpPr/>
            <p:nvPr/>
          </p:nvSpPr>
          <p:spPr>
            <a:xfrm>
              <a:off x="214200" y="4714920"/>
              <a:ext cx="4064400" cy="37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НАЛОГИ НА ИМУЩЕСТВ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84"/>
            <p:cNvSpPr/>
            <p:nvPr/>
          </p:nvSpPr>
          <p:spPr>
            <a:xfrm>
              <a:off x="214200" y="4714920"/>
              <a:ext cx="40644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85"/>
            <p:cNvSpPr/>
            <p:nvPr/>
          </p:nvSpPr>
          <p:spPr>
            <a:xfrm>
              <a:off x="214200" y="5354640"/>
              <a:ext cx="40644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86"/>
            <p:cNvSpPr/>
            <p:nvPr/>
          </p:nvSpPr>
          <p:spPr>
            <a:xfrm>
              <a:off x="214200" y="4714920"/>
              <a:ext cx="1440" cy="63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Line 87"/>
            <p:cNvSpPr/>
            <p:nvPr/>
          </p:nvSpPr>
          <p:spPr>
            <a:xfrm>
              <a:off x="4278600" y="4714920"/>
              <a:ext cx="1080" cy="63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88"/>
            <p:cNvSpPr/>
            <p:nvPr/>
          </p:nvSpPr>
          <p:spPr>
            <a:xfrm>
              <a:off x="214200" y="5092200"/>
              <a:ext cx="40644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89"/>
            <p:cNvSpPr/>
            <p:nvPr/>
          </p:nvSpPr>
          <p:spPr>
            <a:xfrm>
              <a:off x="1148760" y="5092200"/>
              <a:ext cx="108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90"/>
            <p:cNvSpPr/>
            <p:nvPr/>
          </p:nvSpPr>
          <p:spPr>
            <a:xfrm>
              <a:off x="2084400" y="5092200"/>
              <a:ext cx="144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91"/>
            <p:cNvSpPr/>
            <p:nvPr/>
          </p:nvSpPr>
          <p:spPr>
            <a:xfrm>
              <a:off x="3018960" y="5092200"/>
              <a:ext cx="108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" name="Group 92"/>
          <p:cNvGrpSpPr/>
          <p:nvPr/>
        </p:nvGrpSpPr>
        <p:grpSpPr>
          <a:xfrm>
            <a:off x="214200" y="5500800"/>
            <a:ext cx="4065480" cy="640800"/>
            <a:chOff x="214200" y="5500800"/>
            <a:chExt cx="4065480" cy="640800"/>
          </a:xfrm>
        </p:grpSpPr>
        <p:sp>
          <p:nvSpPr>
            <p:cNvPr id="217" name="Rectangle 93"/>
            <p:cNvSpPr/>
            <p:nvPr/>
          </p:nvSpPr>
          <p:spPr>
            <a:xfrm>
              <a:off x="2998080" y="5856120"/>
              <a:ext cx="1259640" cy="2620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136,3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94"/>
            <p:cNvSpPr/>
            <p:nvPr/>
          </p:nvSpPr>
          <p:spPr>
            <a:xfrm>
              <a:off x="2084400" y="5878080"/>
              <a:ext cx="934560" cy="2620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Calibri"/>
                </a:rPr>
                <a:t>12,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Rectangle 95"/>
            <p:cNvSpPr/>
            <p:nvPr/>
          </p:nvSpPr>
          <p:spPr>
            <a:xfrm>
              <a:off x="1148760" y="5878080"/>
              <a:ext cx="935640" cy="26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34,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Rectangle 96"/>
            <p:cNvSpPr/>
            <p:nvPr/>
          </p:nvSpPr>
          <p:spPr>
            <a:xfrm>
              <a:off x="214200" y="5878080"/>
              <a:ext cx="934560" cy="262080"/>
            </a:xfrm>
            <a:prstGeom prst="rect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47,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Rectangle 97"/>
            <p:cNvSpPr/>
            <p:nvPr/>
          </p:nvSpPr>
          <p:spPr>
            <a:xfrm>
              <a:off x="214200" y="5500800"/>
              <a:ext cx="4064400" cy="37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ОСУДАРСТВЕННАЯ ПОШЛИН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98"/>
            <p:cNvSpPr/>
            <p:nvPr/>
          </p:nvSpPr>
          <p:spPr>
            <a:xfrm>
              <a:off x="214200" y="5500800"/>
              <a:ext cx="40644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99"/>
            <p:cNvSpPr/>
            <p:nvPr/>
          </p:nvSpPr>
          <p:spPr>
            <a:xfrm>
              <a:off x="214200" y="6140520"/>
              <a:ext cx="40644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00"/>
            <p:cNvSpPr/>
            <p:nvPr/>
          </p:nvSpPr>
          <p:spPr>
            <a:xfrm>
              <a:off x="214200" y="5500800"/>
              <a:ext cx="1440" cy="63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101"/>
            <p:cNvSpPr/>
            <p:nvPr/>
          </p:nvSpPr>
          <p:spPr>
            <a:xfrm>
              <a:off x="4278600" y="5500800"/>
              <a:ext cx="1080" cy="63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102"/>
            <p:cNvSpPr/>
            <p:nvPr/>
          </p:nvSpPr>
          <p:spPr>
            <a:xfrm>
              <a:off x="214200" y="5878080"/>
              <a:ext cx="40644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103"/>
            <p:cNvSpPr/>
            <p:nvPr/>
          </p:nvSpPr>
          <p:spPr>
            <a:xfrm>
              <a:off x="1148760" y="5878080"/>
              <a:ext cx="108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104"/>
            <p:cNvSpPr/>
            <p:nvPr/>
          </p:nvSpPr>
          <p:spPr>
            <a:xfrm>
              <a:off x="2084400" y="5878080"/>
              <a:ext cx="144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105"/>
            <p:cNvSpPr/>
            <p:nvPr/>
          </p:nvSpPr>
          <p:spPr>
            <a:xfrm>
              <a:off x="3018960" y="5878080"/>
              <a:ext cx="108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0" name="Group 106"/>
          <p:cNvGrpSpPr/>
          <p:nvPr/>
        </p:nvGrpSpPr>
        <p:grpSpPr>
          <a:xfrm>
            <a:off x="4857840" y="4929120"/>
            <a:ext cx="4065120" cy="356760"/>
            <a:chOff x="4857840" y="4929120"/>
            <a:chExt cx="4065120" cy="356760"/>
          </a:xfrm>
        </p:grpSpPr>
        <p:sp>
          <p:nvSpPr>
            <p:cNvPr id="231" name="Rectangle 107"/>
            <p:cNvSpPr/>
            <p:nvPr/>
          </p:nvSpPr>
          <p:spPr>
            <a:xfrm>
              <a:off x="7661880" y="5139360"/>
              <a:ext cx="1259280" cy="1458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28,9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108"/>
            <p:cNvSpPr/>
            <p:nvPr/>
          </p:nvSpPr>
          <p:spPr>
            <a:xfrm>
              <a:off x="6727680" y="5139360"/>
              <a:ext cx="933840" cy="1458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Calibri"/>
                </a:rPr>
                <a:t>-3,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Rectangle 109"/>
            <p:cNvSpPr/>
            <p:nvPr/>
          </p:nvSpPr>
          <p:spPr>
            <a:xfrm>
              <a:off x="5791680" y="5139360"/>
              <a:ext cx="935640" cy="145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4,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Rectangle 110"/>
            <p:cNvSpPr/>
            <p:nvPr/>
          </p:nvSpPr>
          <p:spPr>
            <a:xfrm>
              <a:off x="4857840" y="5139360"/>
              <a:ext cx="933840" cy="145800"/>
            </a:xfrm>
            <a:prstGeom prst="rect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1,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Rectangle 111"/>
            <p:cNvSpPr/>
            <p:nvPr/>
          </p:nvSpPr>
          <p:spPr>
            <a:xfrm>
              <a:off x="4857840" y="4929120"/>
              <a:ext cx="4063680" cy="21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ШТРАФЫ, САНКЦИИ, ВОЗМЕЩЕНИЕ УЩЕРБ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112"/>
            <p:cNvSpPr/>
            <p:nvPr/>
          </p:nvSpPr>
          <p:spPr>
            <a:xfrm>
              <a:off x="4857840" y="4929120"/>
              <a:ext cx="406368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113"/>
            <p:cNvSpPr/>
            <p:nvPr/>
          </p:nvSpPr>
          <p:spPr>
            <a:xfrm>
              <a:off x="4857840" y="5285160"/>
              <a:ext cx="406368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114"/>
            <p:cNvSpPr/>
            <p:nvPr/>
          </p:nvSpPr>
          <p:spPr>
            <a:xfrm>
              <a:off x="4857840" y="4929120"/>
              <a:ext cx="1080" cy="35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115"/>
            <p:cNvSpPr/>
            <p:nvPr/>
          </p:nvSpPr>
          <p:spPr>
            <a:xfrm>
              <a:off x="8921520" y="4929120"/>
              <a:ext cx="1440" cy="35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116"/>
            <p:cNvSpPr/>
            <p:nvPr/>
          </p:nvSpPr>
          <p:spPr>
            <a:xfrm>
              <a:off x="4857840" y="5139360"/>
              <a:ext cx="406368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117"/>
            <p:cNvSpPr/>
            <p:nvPr/>
          </p:nvSpPr>
          <p:spPr>
            <a:xfrm>
              <a:off x="5791680" y="5139360"/>
              <a:ext cx="1080" cy="14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18"/>
            <p:cNvSpPr/>
            <p:nvPr/>
          </p:nvSpPr>
          <p:spPr>
            <a:xfrm>
              <a:off x="6727680" y="5139360"/>
              <a:ext cx="1080" cy="14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119"/>
            <p:cNvSpPr/>
            <p:nvPr/>
          </p:nvSpPr>
          <p:spPr>
            <a:xfrm>
              <a:off x="7661880" y="5139360"/>
              <a:ext cx="1440" cy="14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4" name="Rectangle 120"/>
          <p:cNvSpPr/>
          <p:nvPr/>
        </p:nvSpPr>
        <p:spPr>
          <a:xfrm>
            <a:off x="7429680" y="1500120"/>
            <a:ext cx="142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ыс. рубле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5" name="Group 106"/>
          <p:cNvGrpSpPr/>
          <p:nvPr/>
        </p:nvGrpSpPr>
        <p:grpSpPr>
          <a:xfrm>
            <a:off x="4857840" y="4786200"/>
            <a:ext cx="4068720" cy="785520"/>
            <a:chOff x="4857840" y="4786200"/>
            <a:chExt cx="4068720" cy="785520"/>
          </a:xfrm>
        </p:grpSpPr>
        <p:sp>
          <p:nvSpPr>
            <p:cNvPr id="246" name="Rectangle 107"/>
            <p:cNvSpPr/>
            <p:nvPr/>
          </p:nvSpPr>
          <p:spPr>
            <a:xfrm>
              <a:off x="7664400" y="5248440"/>
              <a:ext cx="1260360" cy="321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5,6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108"/>
            <p:cNvSpPr/>
            <p:nvPr/>
          </p:nvSpPr>
          <p:spPr>
            <a:xfrm>
              <a:off x="6729480" y="5248440"/>
              <a:ext cx="934920" cy="3211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Calibri"/>
                </a:rPr>
                <a:t>-4354,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Rectangle 109"/>
            <p:cNvSpPr/>
            <p:nvPr/>
          </p:nvSpPr>
          <p:spPr>
            <a:xfrm>
              <a:off x="5792760" y="5248440"/>
              <a:ext cx="936720" cy="321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4610,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Rectangle 110"/>
            <p:cNvSpPr/>
            <p:nvPr/>
          </p:nvSpPr>
          <p:spPr>
            <a:xfrm>
              <a:off x="4857840" y="5248440"/>
              <a:ext cx="934920" cy="321120"/>
            </a:xfrm>
            <a:prstGeom prst="rect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256,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Rectangle 111"/>
            <p:cNvSpPr/>
            <p:nvPr/>
          </p:nvSpPr>
          <p:spPr>
            <a:xfrm>
              <a:off x="4857840" y="4786200"/>
              <a:ext cx="4066920" cy="46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ДОХОДЫ ОТ ПРОДАЖИ МАТЕРИАЛЬНЫХ И НЕМАТЕРИАЛЬНЫХ АКТИВОВ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112"/>
            <p:cNvSpPr/>
            <p:nvPr/>
          </p:nvSpPr>
          <p:spPr>
            <a:xfrm>
              <a:off x="4857840" y="4786200"/>
              <a:ext cx="406692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113"/>
            <p:cNvSpPr/>
            <p:nvPr/>
          </p:nvSpPr>
          <p:spPr>
            <a:xfrm>
              <a:off x="4857840" y="5569560"/>
              <a:ext cx="406692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114"/>
            <p:cNvSpPr/>
            <p:nvPr/>
          </p:nvSpPr>
          <p:spPr>
            <a:xfrm>
              <a:off x="4857840" y="4786200"/>
              <a:ext cx="1440" cy="78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115"/>
            <p:cNvSpPr/>
            <p:nvPr/>
          </p:nvSpPr>
          <p:spPr>
            <a:xfrm>
              <a:off x="8924760" y="4786200"/>
              <a:ext cx="1800" cy="78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116"/>
            <p:cNvSpPr/>
            <p:nvPr/>
          </p:nvSpPr>
          <p:spPr>
            <a:xfrm>
              <a:off x="4857840" y="5248440"/>
              <a:ext cx="406692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117"/>
            <p:cNvSpPr/>
            <p:nvPr/>
          </p:nvSpPr>
          <p:spPr>
            <a:xfrm>
              <a:off x="5792760" y="5248440"/>
              <a:ext cx="1440" cy="32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18"/>
            <p:cNvSpPr/>
            <p:nvPr/>
          </p:nvSpPr>
          <p:spPr>
            <a:xfrm>
              <a:off x="6729480" y="5248440"/>
              <a:ext cx="1440" cy="32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119"/>
            <p:cNvSpPr/>
            <p:nvPr/>
          </p:nvSpPr>
          <p:spPr>
            <a:xfrm>
              <a:off x="7664400" y="5248440"/>
              <a:ext cx="1800" cy="32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Group 106"/>
          <p:cNvGrpSpPr/>
          <p:nvPr/>
        </p:nvGrpSpPr>
        <p:grpSpPr>
          <a:xfrm>
            <a:off x="4857840" y="5143680"/>
            <a:ext cx="4143240" cy="999720"/>
            <a:chOff x="4857840" y="5143680"/>
            <a:chExt cx="4143240" cy="999720"/>
          </a:xfrm>
        </p:grpSpPr>
        <p:sp>
          <p:nvSpPr>
            <p:cNvPr id="260" name="Rectangle 107"/>
            <p:cNvSpPr/>
            <p:nvPr/>
          </p:nvSpPr>
          <p:spPr>
            <a:xfrm>
              <a:off x="7664400" y="5843520"/>
              <a:ext cx="1260360" cy="297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0,0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108"/>
            <p:cNvSpPr/>
            <p:nvPr/>
          </p:nvSpPr>
          <p:spPr>
            <a:xfrm>
              <a:off x="6729480" y="5843520"/>
              <a:ext cx="934920" cy="297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Calibri"/>
                </a:rPr>
                <a:t>-4,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109"/>
            <p:cNvSpPr/>
            <p:nvPr/>
          </p:nvSpPr>
          <p:spPr>
            <a:xfrm>
              <a:off x="5792760" y="5843520"/>
              <a:ext cx="936720" cy="297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4,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110"/>
            <p:cNvSpPr/>
            <p:nvPr/>
          </p:nvSpPr>
          <p:spPr>
            <a:xfrm>
              <a:off x="4857840" y="5843520"/>
              <a:ext cx="934920" cy="297720"/>
            </a:xfrm>
            <a:prstGeom prst="rect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0,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111"/>
            <p:cNvSpPr/>
            <p:nvPr/>
          </p:nvSpPr>
          <p:spPr>
            <a:xfrm>
              <a:off x="4857840" y="5572440"/>
              <a:ext cx="4066920" cy="27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ШТРАФЫ, САНКЦИИ, ВОЗМЕЩЕНИЕ УЩЕРБ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112"/>
            <p:cNvSpPr/>
            <p:nvPr/>
          </p:nvSpPr>
          <p:spPr>
            <a:xfrm flipH="1" flipV="1">
              <a:off x="8924760" y="5416560"/>
              <a:ext cx="7632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113"/>
            <p:cNvSpPr/>
            <p:nvPr/>
          </p:nvSpPr>
          <p:spPr>
            <a:xfrm>
              <a:off x="4857840" y="6141600"/>
              <a:ext cx="4066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114"/>
            <p:cNvSpPr/>
            <p:nvPr/>
          </p:nvSpPr>
          <p:spPr>
            <a:xfrm>
              <a:off x="4857840" y="5414400"/>
              <a:ext cx="1440" cy="72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115"/>
            <p:cNvSpPr/>
            <p:nvPr/>
          </p:nvSpPr>
          <p:spPr>
            <a:xfrm>
              <a:off x="8924760" y="5414400"/>
              <a:ext cx="1800" cy="72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16"/>
            <p:cNvSpPr/>
            <p:nvPr/>
          </p:nvSpPr>
          <p:spPr>
            <a:xfrm>
              <a:off x="4857840" y="5843520"/>
              <a:ext cx="4066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117"/>
            <p:cNvSpPr/>
            <p:nvPr/>
          </p:nvSpPr>
          <p:spPr>
            <a:xfrm>
              <a:off x="5792760" y="5843520"/>
              <a:ext cx="1440" cy="29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18"/>
            <p:cNvSpPr/>
            <p:nvPr/>
          </p:nvSpPr>
          <p:spPr>
            <a:xfrm>
              <a:off x="7029360" y="5143680"/>
              <a:ext cx="46080" cy="14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119"/>
            <p:cNvSpPr/>
            <p:nvPr/>
          </p:nvSpPr>
          <p:spPr>
            <a:xfrm>
              <a:off x="7664400" y="5843520"/>
              <a:ext cx="1800" cy="29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checker dir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1"/>
          <p:cNvSpPr/>
          <p:nvPr/>
        </p:nvSpPr>
        <p:spPr>
          <a:xfrm>
            <a:off x="428760" y="1214280"/>
            <a:ext cx="8229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ЕЗВОЗМЕЗДНЫЕ ПОСТУПЛЕНИЯ</a:t>
            </a:r>
            <a:br>
              <a:rPr sz="2400"/>
            </a:b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акланниковского сельского поселения включают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2"/>
          <p:cNvSpPr/>
          <p:nvPr/>
        </p:nvSpPr>
        <p:spPr>
          <a:xfrm>
            <a:off x="285840" y="2214720"/>
            <a:ext cx="814392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ТАЦИЮ НА ВЫРАВНИВАНИЕ УРОВНЯ БЮДЖЕТНОЙ ОБЕСПЕЧЕННОСТИ  ПОСЕЛЕН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ВЕНЦИИ БЮДЖЕТУ ПОСЕЛЕНИЯ НА ОСУЩЕСТВЛЕНИЕ ПЕРВИЧНОГО ВОИНСКОГО УЧЕТА НА ТЕРРИТОРИЯХ, ГДЕ ОТСУТСТВУЮТ ВОЕННЫЕ КОМИССАРИАТЫ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БВЕНЦИИ БЮДЖЕТУ ПОСЕЛЕНИЯ НА ВЫПОЛНЕНИЕ ПЕРЕДАВАЕМЫХ ПОЛНОМОЧИЙ СУБЪЕКТОВ РОССИЙСКОЙ ФЕДЕРАЦИ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ЫЕ МЕЖБЮДЖЕТНЫЕ ТРАНСФЕРТЫ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ХОДЫ ОТ ВОЗВРАТА ОСТАТКОВ СУБСИДИЙ, СУБВЕНЦИЙ И ИНЫХ МЕЖБЮДЖЕТНЫХ ТРАНСФЕРТОВ, ИМЕЮЩИХ ЦЕЛЕВОЕ НАЗНАЧЕНИЕ, ПРОШЛЫХ ЛЕТ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4929120" y="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1"/>
          <a:stretch/>
        </p:blipFill>
        <p:spPr>
          <a:xfrm>
            <a:off x="7572240" y="785880"/>
            <a:ext cx="1357560" cy="1500120"/>
          </a:xfrm>
          <a:prstGeom prst="rect">
            <a:avLst/>
          </a:prstGeom>
          <a:ln w="25560">
            <a:solidFill>
              <a:srgbClr val="604a7b"/>
            </a:solidFill>
            <a:miter/>
          </a:ln>
        </p:spPr>
      </p:pic>
    </p:spTree>
  </p:cSld>
  <p:transition spd="slow">
    <p:wedg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"/>
          <p:cNvSpPr/>
          <p:nvPr/>
        </p:nvSpPr>
        <p:spPr>
          <a:xfrm>
            <a:off x="428760" y="285840"/>
            <a:ext cx="8429400" cy="64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возмездные поступления от других бюджетов бюджетной системы Российской Федерации за 2015 год исполнены в сумме 9038,9 тыс.рублей или 100 процентов к годовому план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тогам 2015 года Администрации поселения из областного и районного бюджетов были выделены средства по следующим направлениям расход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тация бюджету поселения на выравнивание уровня бюджетной обеспеченности – 8485,7 тыс.рублей, исполнение составило 100 процен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венция на осуществление первичного воинского учета на территориях где отсутствуют военные комиссариаты – 164,7 тыс.рублей, исполнение составило 100 процен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венция на выполнение передаваемых полномочий субъектов Российской Федерации по составлению административных протоколов – 0,2 тыс.рублей, исполнение составило 100 процен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ые межбюджетные трансферты на содержание автомобильных дорог общего пользования местного значения – 281,214 тыс.рублей, исполнение составило 100 процен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ые межбюджетные трансферты на изготовление и установку мемориального комплекса участникам ВОВ в п.Н-Саловск – 100,0 тыс.рублей, исполнение составило 100 процен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285840" y="2214720"/>
            <a:ext cx="814392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8858160" y="0"/>
            <a:ext cx="285840" cy="73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5437080" y="3651120"/>
            <a:ext cx="3000600" cy="29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857160" y="714240"/>
            <a:ext cx="77155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РУКТУРА БЕЗВОЗМЕЗДНЫХ ПОСТУПЛЕНИЙ,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ступивших в бюджет Бакланниковского сельского поселения за 2015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401760" y="2309760"/>
            <a:ext cx="8510400" cy="44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4714920" y="0"/>
            <a:ext cx="442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Диаграмма 8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8429760" cy="4500720"/>
          </a:xfrm>
          <a:prstGeom prst="rect">
            <a:avLst/>
          </a:prstGeom>
          <a:ln w="0">
            <a:noFill/>
          </a:ln>
        </p:spPr>
      </p:pic>
      <p:sp>
        <p:nvSpPr>
          <p:cNvPr id="285" name="Прямоугольник 9"/>
          <p:cNvSpPr/>
          <p:nvPr/>
        </p:nvSpPr>
        <p:spPr>
          <a:xfrm>
            <a:off x="309240" y="2000160"/>
            <a:ext cx="1491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тыс.рублей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</cp:lastModifiedBy>
  <cp:lastPrinted>2012-04-10T14:17:22Z</cp:lastPrinted>
  <dcterms:modified xsi:type="dcterms:W3CDTF">2016-02-21T05:38:26Z</dcterms:modified>
  <cp:revision>287</cp:revision>
  <dc:subject/>
  <dc:title>Слайд 1</dc:title>
</cp:coreProperties>
</file>