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E18923-24D2-4F60-A30F-1EF4E44C453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340450-6C57-4E08-AEB3-72947B48EB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6579A4-0AD5-49E2-9752-1513BE25DD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F0B401-F880-4114-8827-1F543EBC8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E70E46-0621-4BFF-821B-9F5AD3250A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AFEFED-5BC3-44D8-AC46-7020FEF2D2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396791-D8FD-4AED-9BB4-9500BDF624B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FC364D-6DE6-4656-8649-DEACCD52FDE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BB2F70-F345-4193-BFE2-58E4AF6EDA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DE9C6B-CC8B-4984-BC91-0750789BE6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08A0D3-5538-42C8-952D-2D214624AC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583CC7-A749-49C1-B5B0-588BDE0B8C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93CCC-2752-4324-9B00-6DA1D24403F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BEA9A6-2E55-4B4F-84B9-74F9EA730E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46EA1-74C1-4128-8143-EB89C91C2A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D7D65A-7B25-4C39-9E67-1EAF30F982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7EB1F4-88DE-448B-B94B-582BE23ED4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61E3A5-868B-40AB-BE29-ED0BBA134C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12289F-CC69-429A-A093-8BD916AF49A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6C77C4-EBC6-468B-ADEB-B082705EDC3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436DC4-901C-495A-971D-15D967B9C2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C0418C-AE05-498B-9162-D831EFA880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7B36D7-3F3B-43EC-9536-9D9C1C1E8C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6EB36-728F-4040-8CF6-5526C7D0AA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08734-26B3-4520-A849-9D0B38B0FF2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F13166-FF79-4CE4-B6DD-3E645F2B950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43972-5848-4FD2-B948-7C82482602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86360C-A5D5-42CB-973B-7CB210B6720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094474-554B-49BF-B5B3-EE8B5E87F0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466D-8518-4900-87D9-EAAF6EC37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DBFF-4DA7-4A60-AC5F-E3B3EF79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E1C0-EEFF-4D96-A2FF-0B41B6D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BB0C-9228-418D-9611-DEFDFBC2B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A5CB8-2E68-4A84-80B7-9B10681522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11FBA-E91A-4CAC-AF8E-A180791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7FB5-7865-41B0-A99A-ED07FA9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E387-6F54-4875-9A83-8DAC09F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C0ED5-70DF-4F16-BDD0-611FFCE9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6A41F-43AF-4428-B6D7-7E6ED19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8AB5F-2306-4E90-9667-DBA97309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A501-8C74-47EF-9D77-CD7ED50A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74913-1204-4E21-A009-8AF8D91D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CD410-BEE3-4CB2-A814-63FED2AE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C5CA1-096F-4519-BDBC-C3A6DC43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6065C-848A-4A0F-9917-0CC3A823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781E0-9174-4EFE-892E-F95F32F92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0573-128F-493B-A114-46808F87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C5FD-23E9-4429-888F-D760BDAB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2180-9B98-49AB-91BE-77A2F596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FF65-D18F-49DE-8F57-766AF2B0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4D58-7CBE-41A9-977C-8DB41E16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2E30-EEE2-4C61-B600-7FA1DAFD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89A1-A5AA-40C3-8A1C-5C3512F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5FA71D-BD53-46CE-85CC-2EE6F43CCCC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AC46FD-35DE-47AF-9D55-7C0C5CA9656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7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28760" y="285840"/>
            <a:ext cx="84294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7 год исполнены в сумме 9787,0 тыс.рублей или 99,6 процентов к годовому пла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7 года Администрации поселения из областного и районного бюджетов были выделены средства по следующим направлениям расхо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тация бюджету поселения на выравнивание уровня бюджетной обеспеченности – 7735,1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осуществление первичного воинского учета на территориях где отсутствуют военные комиссариаты – 173,3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– 1920,7 тыс.рублей, исполнение составило 97,8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поселения от возврата остатков иных межбюджетных трансфертов – 0,9 тыс.рублей, исполнение составил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7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АМИКА безвозмездных поступлений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бюджет Бакланниковского сельского поселения                    за 2014-2017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9"/>
          <p:cNvSpPr/>
          <p:nvPr/>
        </p:nvSpPr>
        <p:spPr>
          <a:xfrm>
            <a:off x="7016760" y="1714680"/>
            <a:ext cx="160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7 год по всем направлениям расходов                   12 802,4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4200" y="1071720"/>
          <a:ext cx="8715600" cy="5546520"/>
        </p:xfrm>
        <a:graphic>
          <a:graphicData uri="http://schemas.openxmlformats.org/drawingml/2006/table">
            <a:tbl>
              <a:tblPr/>
              <a:tblGrid>
                <a:gridCol w="2643480"/>
                <a:gridCol w="1384200"/>
                <a:gridCol w="1098360"/>
                <a:gridCol w="1465200"/>
                <a:gridCol w="871560"/>
                <a:gridCol w="1252800"/>
              </a:tblGrid>
              <a:tr h="30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7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7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6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38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исполнение 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08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29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27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3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6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70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439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41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22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11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62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62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4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53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 97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 80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за 2017 год исполнение бюджета поселения осуществлялось по 7 муниципальным программам из 10 фактически существующих, на реализацию которых первоначально было предусмотрено 10 676,7 тыс.рублей или 98,2 процента расходов бюджета Бакланниковского сельского поселения. В течение года за счет поступления сверхдоходов от поступления налоговых и неналоговых доходов, а также иных межбюджетных трансфертов из областного и районного бюджетов, расходные обязательства муниципальных программ выросли на 2 059,3 тыс.рублей и составили 12 736,0 тыс.рублей или 98,1 процента от общей суммы расходов бюджета посел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Фактическое исполнение муниципальных программ за 2017 год по объемам и источникам финансирования составило 12 583,4 тыс.рублей или 98,8 процента. Из областного бюджета Бакланниковскому сельскому поселении были выделены средства на выплату заработной платы работникам культуры в сумме 658,2 тыс.рублей, которые по итогу 2017 года исполнены в полном объеме. Остальные мероприятия муниципальных программ исполнены за счет средств местного бюджет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омиссией по реализации муниципальных программ Бакланниковского сельского поселения проведена оценка эффективности реализации 10 муниципальных программ Бакланниковского сельского поселения. В целом по всем муниципальным программам за 2017 год признается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удовлетворительны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уровень реализации муниципальных программ. Данный показатель оценен в 0,92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7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5840" y="1397160"/>
          <a:ext cx="8643960" cy="46767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143000"/>
                <a:gridCol w="92880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7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7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9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8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98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01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2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2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7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4200" y="1576440"/>
          <a:ext cx="8715600" cy="4129200"/>
        </p:xfrm>
        <a:graphic>
          <a:graphicData uri="http://schemas.openxmlformats.org/drawingml/2006/table">
            <a:tbl>
              <a:tblPr/>
              <a:tblGrid>
                <a:gridCol w="684360"/>
                <a:gridCol w="4181400"/>
                <a:gridCol w="1017720"/>
                <a:gridCol w="1189080"/>
                <a:gridCol w="917280"/>
                <a:gridCol w="725760"/>
              </a:tblGrid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7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7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за 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н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17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41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4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67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73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58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7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7год по доходам исполнен в сумме 12518,0 тыс.рублей или 100,2 процента к годовому плану и по расходам в сумме 12802,4 тыс.рублей или 98,6 процента. Дефицит по итогам исполнения бюджета за 2017 год составил 284,4 тыс.руб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ыступили остатки бюджетных средств, сложившиеся на конец 2016 года. По сравнению с аналогичным периодом прошлого года наблюдается уменьшение поступления доходов в бюджет поселения на 2379,1 тыс.рублей или на 16,0 процентов, по расходам исполнение уменьшилось на 1731,1 тыс.рублей или на 11,9 проц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Схема 5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582040" cy="4730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Схема 5" descr=""/>
          <p:cNvPicPr/>
          <p:nvPr/>
        </p:nvPicPr>
        <p:blipFill>
          <a:blip r:embed="rId1"/>
          <a:stretch/>
        </p:blipFill>
        <p:spPr>
          <a:xfrm>
            <a:off x="353880" y="1852560"/>
            <a:ext cx="858204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7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Схема 5" descr=""/>
          <p:cNvPicPr/>
          <p:nvPr/>
        </p:nvPicPr>
        <p:blipFill>
          <a:blip r:embed="rId1"/>
          <a:stretch/>
        </p:blipFill>
        <p:spPr>
          <a:xfrm>
            <a:off x="281160" y="2066760"/>
            <a:ext cx="8581680" cy="393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8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190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191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100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,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7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доходов за 2014-2017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доходов бюджета Бакланниковского сельского поселения за 2017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22400" y="1579680"/>
            <a:ext cx="8899200" cy="5271840"/>
            <a:chOff x="122400" y="1579680"/>
            <a:chExt cx="8899200" cy="5271840"/>
          </a:xfrm>
        </p:grpSpPr>
        <p:pic>
          <p:nvPicPr>
            <p:cNvPr id="106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9200" cy="52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"/>
            <p:cNvSpPr/>
            <p:nvPr/>
          </p:nvSpPr>
          <p:spPr>
            <a:xfrm>
              <a:off x="122400" y="1579680"/>
              <a:ext cx="8899200" cy="52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,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714920" y="2428920"/>
            <a:ext cx="135720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87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928960" y="2428920"/>
            <a:ext cx="15001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30,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6,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9,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,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6858000" y="5500800"/>
            <a:ext cx="157176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,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7858080" y="4643280"/>
            <a:ext cx="114300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96,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18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3786120" y="5857920"/>
            <a:ext cx="142884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7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7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2731,0 тыс.рублей или 102,4 процента к годовым назначениям. Данный показатель уменьшает уровень аналогичного периода прошлого года на 1791,9 тыс.рублей или на 39,6 процен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в структуре поступивших за 2017 год собственных доходов занимают доходы, получаемые в вид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ого налога, который составил 1483,7 тыс.рублей или 54,3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а на доходы физических лиц, который составил 583,1 тыс.рублей или 21,4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го сельскохозяйственного налога, который составил 427,8 тыс.рублей или 15,7 проц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4200" y="1500120"/>
          <a:ext cx="8715600" cy="5072040"/>
        </p:xfrm>
        <a:graphic>
          <a:graphicData uri="http://schemas.openxmlformats.org/drawingml/2006/table">
            <a:tbl>
              <a:tblPr/>
              <a:tblGrid>
                <a:gridCol w="3329280"/>
                <a:gridCol w="1242720"/>
                <a:gridCol w="1000080"/>
                <a:gridCol w="1071720"/>
                <a:gridCol w="1285920"/>
                <a:gridCol w="785880"/>
              </a:tblGrid>
              <a:tr h="38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ервоначально утвержденных назнач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исполнения за 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о утвержденные 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ое исполнение 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алоговые доход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 по  подакцизным товарам (продукции), производимым на территории Российской Феде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6439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ктура поступления налоговых и неналоговых доходов        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ыс.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4200" y="1500120"/>
          <a:ext cx="8715600" cy="5132520"/>
        </p:xfrm>
        <a:graphic>
          <a:graphicData uri="http://schemas.openxmlformats.org/drawingml/2006/table">
            <a:tbl>
              <a:tblPr/>
              <a:tblGrid>
                <a:gridCol w="3329280"/>
                <a:gridCol w="1242720"/>
                <a:gridCol w="1000080"/>
                <a:gridCol w="1071720"/>
                <a:gridCol w="1285920"/>
                <a:gridCol w="785880"/>
              </a:tblGrid>
              <a:tr h="38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ервоначально утвержденных назнач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исполнения за 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о утвержденные 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ое исполнение 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налоговые доход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, составляющего казну сельских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еречисления части прибыли, остающейся после уплаты налогов и иных обязательных платежей муниципальных унитарных предпри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, поступающие в порядке возмещения расходов, понесенных в связи с эксплуатацией иму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 реализации иного имущества, находящегося в собственности сельских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ежные взыскания (штраф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ктура поступления налоговых и неналоговых доходов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(тыс.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8-07-17T12:23:13Z</dcterms:modified>
  <cp:revision>369</cp:revision>
  <dc:subject/>
  <dc:title>Слайд 1</dc:title>
</cp:coreProperties>
</file>