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007E0-0613-4F3C-B3FD-F12AC3EA15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2DCF3-3551-4337-9846-2B9200219B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E6D9FE-E584-40B5-8786-7D5C2D5E1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E732B-CD57-4DFD-A1FD-14E3351C5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60144-A662-4555-973C-9F9D367AF1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FF847F-3F74-4B05-BBAB-FE9156AD5C9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A13D32-E427-4E62-A4E4-9D56FDA782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6A1457-D521-45EE-8DF2-9E63D59B82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A21C89-9D49-46FC-A05C-91F7A87F08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0B3820-9EDF-4724-B8C5-64FDFCFA2B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D83244-0CEE-475A-A531-716D5C86A2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10C1E-1CB8-4E17-AFA6-78576F585D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77A5B5-DAAA-42C9-9045-9D543AFF7D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5EC071-5577-4FFC-8EBC-6F76A2E4A2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0048DB-DF5F-4420-B0F6-22BCC76DD43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7EEA27-AD78-4B67-9F73-196230C0F3C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5584CF-7B26-4768-8D01-693881887B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797E94-0139-4288-BF30-A243DA01A7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30FA96-6051-499D-B23A-434899C65E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CFF1D8-01E5-4A80-809D-DCFE164367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FEE74-96A1-46B8-B2D1-055A59CE54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88E549-7CF8-4DF1-BC3E-D917297001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683E60-C513-4BD2-AD37-1AA91829CB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145AD-049B-4674-AD42-BA1671551B3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F97B2-60A0-495A-BE87-F890815B773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454522-255B-4A81-A450-CC14C0C96D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281DDD-7EB0-4999-B44A-5BCFB6041A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097CE8-61D4-42C5-8C6A-9501B796E9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05F9E5-450D-4704-9F56-AF8D84633B5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43079F-495F-4672-BB2E-D65C38512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0C04-669E-452E-AE7B-04A319C4E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B994-0A78-4695-94EF-6579B3DE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BCBC-54F0-4605-A8A8-E901F43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27D8-2673-4736-8374-802C22E81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05242-40FB-43AC-A8C1-C079F415A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CBA3-3FB5-419A-9035-90A8991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F9E94-26CB-4D3B-878C-10A2E03A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F15AD-3B36-4A81-A1FA-5AAF3B90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14A92-7E7C-4543-999A-B0080D47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83290-B5E6-40BF-82BD-4C91872A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57B63-038A-4F5A-8B07-0EE788F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05B1-34C2-46DC-B1D9-EB1F351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5C7C-CAA4-4D30-AD5A-3A596F09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C87B-4226-4832-926A-3F2F2C8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887BD-DB64-4A44-8941-3917BF9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0B164-9E55-48CF-A41B-EAEC762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ABB5-B2D0-4953-A91F-CA732C8FB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4669-3D8F-4D24-B13D-F24E1C8B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D13D-C611-4B09-8876-6981DE8D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2044-79FE-4514-BAA1-3A2DF73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968D-0800-4DD3-9479-26252962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27E3-8897-4FC1-9163-7B65B9C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4CF7-F72F-4271-AC23-C226418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4325-667E-4648-972A-347B676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332E94-BDDA-4466-8D9D-7028B78E65C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F53AEB-BE86-4624-82F4-AD77CB8E58E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6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28760" y="285840"/>
            <a:ext cx="84294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6 год исполнены в сумме 10374,1 тыс.рублей или 100 процентов к годовому пла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6 года Администрации поселения из областного и районного бюджетов были выделены средства по следующим направлениям расхо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тация бюджету поселения на выравнивание уровня бюджетной обеспеченности – 8665,9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осуществление первичного воинского учета на территориях где отсутствуют военные комиссариаты – 174,8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– 1532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поселения от возврата остатков иных межбюджетных трансфертов – 0,6 тыс.рублей, исполнение составил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6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КА безвозмездных поступлений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бюджет Бакланниковского сельского поселения                    за 2014-2016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9"/>
          <p:cNvSpPr/>
          <p:nvPr/>
        </p:nvSpPr>
        <p:spPr>
          <a:xfrm>
            <a:off x="7016760" y="1714680"/>
            <a:ext cx="160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6 год по всем направлениям расходов                   14 533,5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4200" y="1071720"/>
          <a:ext cx="8715600" cy="5546520"/>
        </p:xfrm>
        <a:graphic>
          <a:graphicData uri="http://schemas.openxmlformats.org/drawingml/2006/table">
            <a:tbl>
              <a:tblPr/>
              <a:tblGrid>
                <a:gridCol w="2643480"/>
                <a:gridCol w="1384200"/>
                <a:gridCol w="1098360"/>
                <a:gridCol w="1465200"/>
                <a:gridCol w="871560"/>
                <a:gridCol w="1252800"/>
              </a:tblGrid>
              <a:tr h="30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6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6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5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38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исполнение 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1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1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08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3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77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70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96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54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41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5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7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53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6 год сформированы и утверждены 10 муниципальных программ. Из них 7 муниципальных программ подлежали финансированию. На реализацию мероприятий муниципальных программ Бакланниковского сельского поселения в 2016 году первоначально предусмотрено 11 040,6 тыс.рублей, то есть в программах сосредоточено 89,2 процента расходов бюджета поселения. В течении года за счет поступления сверхдоходов от поступления налоговых и неналоговых доходов, а также иных межбюджетных трансфертов из областного и районного бюджетов, расходные обязательства муниципальных программ выросли на 1 739,2 тыс.рублей и составили 13 067,8 тыс.рублей или 88,4 процента расходов бюджета поселени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актическое исполнение муниципальных программ за 2016 год по объемам и источникам финансирования составило 12 848,0 тыс.рублей или 98,3 процента. Из областного бюджета Бакланниковскому сельскому поселении были выделены средства на содержание внутрипоселковых дорог в сумме 400,0 тыс.рублей, на выплату заработной платы работникам культуры в сумме 165,3 тыс.рублей, на приобретение водонапорной скважины в сумме 345,0 тыс.рублей, которые по итогу 2016 года исполнены в полном объеме. Остальные мероприятия муниципальных программ исполнены за счет средств местного бюджет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омиссией по реализации муниципальных программ Бакланниковского сельского поселения проведена оценка эффективности реализации 10 муниципальных программ Бакланниковского сельского поселения. В целом по всем муниципальным программам за 2016 год признается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удовлетворитель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уровень реализации муниципальных программ. Данный показатель оценен в 0,83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6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143000"/>
                <a:gridCol w="92880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6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4200" y="1576440"/>
          <a:ext cx="8715600" cy="3397320"/>
        </p:xfrm>
        <a:graphic>
          <a:graphicData uri="http://schemas.openxmlformats.org/drawingml/2006/table">
            <a:tbl>
              <a:tblPr/>
              <a:tblGrid>
                <a:gridCol w="684360"/>
                <a:gridCol w="4181400"/>
                <a:gridCol w="1017720"/>
                <a:gridCol w="1235160"/>
                <a:gridCol w="871200"/>
                <a:gridCol w="725760"/>
              </a:tblGrid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0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н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4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6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84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6 год по доходам исполнен в сумме 14897,1 тыс.рублей или 101,6 процента к годовому плану и по расходам в сумме 14533,5 тыс.рублей или 98,3 процента. Профицит по итогам исполнения бюджета за 2016 год составил 363,6 тыс.руб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ыступили остатки бюджетных средств, сложившиеся на конец 2015 года. По сравнению с аналогичным периодом прошлого года наблюдается увеличение поступления доходов в бюджет поселения на 2558,0 тыс.рублей или на 20,7 процента, по расходам исполнение уменьшилось на 2008,7 тыс.рублей или на 13,8 проц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Схема 5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58204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Схема 5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858204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Схема 5" descr=""/>
          <p:cNvPicPr/>
          <p:nvPr/>
        </p:nvPicPr>
        <p:blipFill>
          <a:blip r:embed="rId1"/>
          <a:stretch/>
        </p:blipFill>
        <p:spPr>
          <a:xfrm>
            <a:off x="281160" y="2066760"/>
            <a:ext cx="8581680" cy="393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7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192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100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,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6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доходов за 2014-2016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доходов бюджета Бакланниковского сельского поселения з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22400" y="1579680"/>
            <a:ext cx="8899200" cy="5271840"/>
            <a:chOff x="122400" y="1579680"/>
            <a:chExt cx="8899200" cy="527184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9200" cy="52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122400" y="1579680"/>
              <a:ext cx="8899200" cy="52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714920" y="2428920"/>
            <a:ext cx="135720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74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928960" y="2428920"/>
            <a:ext cx="15001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74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5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6858000" y="5500800"/>
            <a:ext cx="157176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7858080" y="4643280"/>
            <a:ext cx="114300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,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62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97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786120" y="5857920"/>
            <a:ext cx="142884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6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6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4522,9 тыс.рублей или 105,5 процента к годовым назначениям. Данный показатель увеличивает уровень аналогичного периода прошлого года на 1222,7 тыс.рублей или на 37,0 процен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в структуре поступивших за 2016 год собственных доходов занимают доходы, получаемые в вид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ые составили 1292,4 тыс.рублей или 28,6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ого налога, который составил 1761,5 тыс.рублей или 38,9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а на доходы физических лиц, который составил 923,0 тыс.рублей или 20,4 проц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4200" y="1500120"/>
          <a:ext cx="8715600" cy="507204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 по  подакцизным товарам (продукции), производимым на территории Российской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6439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     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4200" y="1500120"/>
          <a:ext cx="8715600" cy="513252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, составляющего казну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еречисления части прибыли, остающейся после уплаты налогов и иных обязательных платежей муниципальных унитарных пред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, поступающие в порядке возмещения расходов, понесенных в связи с эксплуатацией иму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, находящихся в собственности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ежные взыскания (штраф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7-03-20T13:03:17Z</dcterms:modified>
  <cp:revision>336</cp:revision>
  <dc:subject/>
  <dc:title>Слайд 1</dc:title>
</cp:coreProperties>
</file>