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742080" cy="9872640"/>
          </a:xfrm>
          <a:custGeom>
            <a:avLst/>
            <a:gdLst>
              <a:gd name="textAreaLeft" fmla="*/ 360 w 6742080"/>
              <a:gd name="textAreaRight" fmla="*/ 6741720 w 6742080"/>
              <a:gd name="textAreaTop" fmla="*/ 360 h 9872640"/>
              <a:gd name="textAreaBottom" fmla="*/ 9872280 h 9872640"/>
            </a:gdLst>
            <a:ahLst/>
            <a:rect l="textAreaLeft" t="textAreaTop" r="textAreaRight" b="textAreaBottom"/>
            <a:pathLst>
              <a:path w="21600" h="31629">
                <a:moveTo>
                  <a:pt x="5" y="0"/>
                </a:moveTo>
                <a:arcTo wR="5" hR="5" stAng="16200000" swAng="-5400000"/>
                <a:lnTo>
                  <a:pt x="0" y="31624"/>
                </a:lnTo>
                <a:arcTo wR="5" hR="5" stAng="10800000" swAng="-5400000"/>
                <a:lnTo>
                  <a:pt x="21595" y="316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dt" idx="5"/>
          </p:nvPr>
        </p:nvSpPr>
        <p:spPr>
          <a:xfrm>
            <a:off x="38178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9032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136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937908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38178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6AC885-A635-4122-AD72-2E57596B740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58B075-6443-40ED-BC2D-EE4C606BE6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BBC311-A0AF-4212-BD0C-DB226885982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86F395-43E3-494B-AEC5-068948910A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E81318-570F-43F2-8AB6-FF61F909FF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31B561-7506-4B92-A425-E8CC46A97BB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ADD14F-98A8-434F-9800-F18BA43AD1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C8363B-04F1-4BC5-B1FE-E0B0B9E39E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F73E03-299F-4607-934B-BF118723070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A90E22-B518-4A34-96E8-4C7404F926B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4B296-AE1E-4E6A-B34E-12363FE817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2A6E69-B68D-44A9-A36D-5BEC62E2B5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DDB53A-A746-48DD-B5FC-9268F24817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F60B77-95DF-459E-B5C2-1658063C7D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2B1D39-5423-4EAE-8F48-1088CDE763E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B7CB8B-FE2D-426A-9FFA-274DD8A8584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1E9864-147D-4B3D-9368-2FCBEB54014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E29CE6-AE2D-48E6-8AB0-48503B0A4B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A9BC10-C509-415D-80BE-6193582EBFA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ED5C19-68DB-4D18-9756-6DF86E4A099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830CD0-391F-436B-851C-27DE4D3D309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4BE86A-C1DE-4A85-BB3C-BE076F72D41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17C846-EF5A-48E1-9894-BBBEC3CD778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3EF342-4DB5-4C89-90EC-B430C484691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E9FF0D-985C-4AEA-A1AD-A9D2ABB27FE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6EACFB-0452-4FA0-8D5D-14A0358B51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9149D7-2225-462A-ABDA-8BAAC13C3D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F07E82-A922-4916-A1EA-9693685F7B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178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B56894-9241-4469-8291-16D39D957A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4640" y="4689360"/>
            <a:ext cx="5392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17800" y="937908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3B747-4B93-41D6-9E0F-9D643133C0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81CB-CA2C-44B4-9657-BB1F4BAABF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A29E-82AD-4884-9F0A-85B6C18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408D-11B9-4AA8-9AC4-3BE94B09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E763-5562-407B-BD49-90B1DD61E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F7380-F740-4D87-A8FC-5F9B52257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57827-03D7-4D02-92C3-AB3AC39B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9C892-CB63-4B0A-9C8F-C16FC3EF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9A6D1-717D-4FB7-B955-E2AF57E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9C8A5-61A0-46B1-A904-05E800FC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EF570-3432-4C66-BE1F-E3BD8580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C7667-0DE7-4EC2-AF1A-3D05C6B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1763-B799-4586-81A9-DC49514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B645-E52E-4CEC-B9EA-ACECB47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BC4BE-0439-41AF-9881-B25F362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7C516-039C-4378-A65A-E6823A34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11FD-2CDE-431D-BA8A-EFDEB43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23CFF-5F86-4B03-AD79-14B246C67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703B-65B1-4C81-AE3F-CFAD5D4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68ED-D427-44B4-8C60-489E57C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012E-7A74-4BF8-BC8A-3FFB25AC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E497-B59E-4533-AD13-9023A011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D398-87DE-46F6-8766-C80AD0A4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D326-7388-46C1-A0F6-22940F3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38D8-FE52-4559-AA44-0AEEB78A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0C08BC-8E73-4638-9C98-02E120BBC00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29F1AA-58F0-4A00-BF2C-03DBF9543F1D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"/>
          <p:cNvGrpSpPr/>
          <p:nvPr/>
        </p:nvGrpSpPr>
        <p:grpSpPr>
          <a:xfrm>
            <a:off x="5437080" y="3651120"/>
            <a:ext cx="2998800" cy="2997360"/>
            <a:chOff x="5437080" y="3651120"/>
            <a:chExt cx="2998800" cy="2997360"/>
          </a:xfrm>
        </p:grpSpPr>
        <p:pic>
          <p:nvPicPr>
            <p:cNvPr id="91" name="Picture 2" descr=""/>
            <p:cNvPicPr/>
            <p:nvPr/>
          </p:nvPicPr>
          <p:blipFill>
            <a:blip r:embed="rId1"/>
            <a:stretch/>
          </p:blipFill>
          <p:spPr>
            <a:xfrm>
              <a:off x="5437080" y="3651120"/>
              <a:ext cx="2998800" cy="29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3"/>
            <p:cNvSpPr/>
            <p:nvPr/>
          </p:nvSpPr>
          <p:spPr>
            <a:xfrm>
              <a:off x="5437080" y="3651120"/>
              <a:ext cx="2998800" cy="29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Text Box 4"/>
          <p:cNvSpPr/>
          <p:nvPr/>
        </p:nvSpPr>
        <p:spPr>
          <a:xfrm>
            <a:off x="428760" y="116352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я об исполнении бюджета Бакланниковского сельского поселения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 2016 г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857160" y="3786120"/>
            <a:ext cx="2643120" cy="278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28760" y="285840"/>
            <a:ext cx="8429400" cy="64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е поступления от других бюджетов бюджетной системы Российской Федерации за 2016 год исполнены в сумме 10374,1 тыс.рублей или 100 процентов к годовому план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тогам 2016 года Администрации поселения из областного и районного бюджетов были выделены средства по следующим направлениям расход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тация бюджету поселения на выравнивание уровня бюджетной обеспеченности – 8665,9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осуществление первичного воинского учета на территориях где отсутствуют военные комиссариаты – 174,8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я на выполнение передаваемых полномочий субъектов Российской Федерации по составлению административных протоколов – 0,2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– 1532,7 тыс.рублей, исполнение составило 100 проц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ходы бюджета поселения от возврата остатков иных межбюджетных трансфертов – 0,6 тыс.рублей, исполнение составило 100 проц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858160" y="0"/>
            <a:ext cx="28584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437080" y="3651120"/>
            <a:ext cx="300060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А БЕЗВОЗМЕЗДНЫХ ПОСТУПЛЕНИЙ,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6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9"/>
          <p:cNvSpPr/>
          <p:nvPr/>
        </p:nvSpPr>
        <p:spPr>
          <a:xfrm>
            <a:off x="309240" y="2000160"/>
            <a:ext cx="149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857160" y="714240"/>
            <a:ext cx="7715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НАМИКА безвозмездных поступлений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бюджет Бакланниковского сельского поселения                    за 2014-2016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01760" y="2309760"/>
            <a:ext cx="851040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714920" y="0"/>
            <a:ext cx="442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Диаграмма 8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8429760" cy="450072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9"/>
          <p:cNvSpPr/>
          <p:nvPr/>
        </p:nvSpPr>
        <p:spPr>
          <a:xfrm>
            <a:off x="7016760" y="1714680"/>
            <a:ext cx="1609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тыс.рубле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57120" y="1000080"/>
            <a:ext cx="835812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357120" y="103320"/>
            <a:ext cx="842976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ассовое исполнение бюджета Бакланниковского сельского поселения за 2016 год по всем направлениям расходов                   14 533,5 тыс.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929280" y="1643040"/>
            <a:ext cx="171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Диаграмма 7" descr=""/>
          <p:cNvPicPr/>
          <p:nvPr/>
        </p:nvPicPr>
        <p:blipFill>
          <a:blip r:embed="rId1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  <a:ea typeface="Tahoma"/>
              </a:rPr>
              <a:t>Структура кассовых рас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4200" y="1071720"/>
          <a:ext cx="8715600" cy="5546520"/>
        </p:xfrm>
        <a:graphic>
          <a:graphicData uri="http://schemas.openxmlformats.org/drawingml/2006/table">
            <a:tbl>
              <a:tblPr/>
              <a:tblGrid>
                <a:gridCol w="2643480"/>
                <a:gridCol w="1384200"/>
                <a:gridCol w="1098360"/>
                <a:gridCol w="1465200"/>
                <a:gridCol w="871560"/>
                <a:gridCol w="1252800"/>
              </a:tblGrid>
              <a:tr h="30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за 2016 год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Справоч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  <a:ea typeface="Tahoma"/>
                        </a:rPr>
                        <a:t>Исп. 2016г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Исп. 2015г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138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исполнение 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Годовые плановы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знач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ассовое  испол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 41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1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 088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33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77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 70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96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540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 41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 78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 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 54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78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 53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70"/>
          <p:cNvSpPr/>
          <p:nvPr/>
        </p:nvSpPr>
        <p:spPr>
          <a:xfrm>
            <a:off x="7643880" y="500040"/>
            <a:ext cx="13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акланниковского сельского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4412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министрацией Бакланниковского сельского поселения на 2016 год сформированы и утверждены 10 муниципальных программ. Из них 7 муниципальных программ подлежали финансированию. На реализацию мероприятий муниципальных программ Бакланниковского сельского поселения в 2016 году первоначально предусмотрено 11 040,6 тыс.рублей, то есть в программах сосредоточено 89,2 процента расходов бюджета поселения. В течении года за счет поступления сверхдоходов от поступления налоговых и неналоговых доходов, а также иных межбюджетных трансфертов из областного и районного бюджетов, расходные обязательства муниципальных программ выросли на 1 739,2 тыс.рублей и составили 13 067,8 тыс.рублей или 88,4 процента расходов бюджета поселения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0094"/>
            </a:gs>
            <a:gs pos="100000">
              <a:srgbClr val="00ff00"/>
            </a:gs>
          </a:gsLst>
          <a:lin ang="4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актическое исполнение муниципальных программ за 2016 год по объемам и источникам финансирования составило 12 848,0 тыс.рублей или 98,3 процента. Из областного бюджета Бакланниковскому сельскому поселении были выделены средства на содержание внутрипоселковых дорог в сумме 400,0 тыс.рублей, на выплату заработной платы работникам культуры в сумме 165,3 тыс.рублей, на приобретение водонапорной скважины в сумме 345,0 тыс.рублей, которые по итогу 2016 года исполнены в полном объеме. Остальные мероприятия муниципальных программ исполнены за счет средств местного бюджет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омиссией по реализации муниципальных программ Бакланниковского сельского поселения проведена оценка эффективности реализации 10 муниципальных программ Бакланниковского сельского поселения. В целом по всем муниципальным программам за 2016 год признается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удовлетворительны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уровень реализации муниципальных программ. Данный показатель оценен в 0,83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6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358040" y="1052640"/>
            <a:ext cx="15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85840" y="1397160"/>
          <a:ext cx="8643960" cy="5416560"/>
        </p:xfrm>
        <a:graphic>
          <a:graphicData uri="http://schemas.openxmlformats.org/drawingml/2006/table">
            <a:tbl>
              <a:tblPr/>
              <a:tblGrid>
                <a:gridCol w="500040"/>
                <a:gridCol w="4357800"/>
                <a:gridCol w="1071360"/>
                <a:gridCol w="1143000"/>
                <a:gridCol w="928800"/>
                <a:gridCol w="642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качественными жилищно-коммунальными услугами населения Бакланниковского сельского поселения на 2014-2020 годы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спечение общественного порядка на территори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населения и территории Бакланниковского сельского поселения от чрезвычайных ситуаций, обеспечение пожарной безопасности и безопасности людей  на водных объек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культуры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66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 и рациональное природопольз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физической культуры и спорта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500040" y="-52560"/>
            <a:ext cx="82296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                                    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должение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ых программ, предусмотренных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 финансированию за счет средств бюджета Бакланниковского сельского поселения в 2016 году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286760" y="105264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14200" y="1576440"/>
          <a:ext cx="8715600" cy="3397320"/>
        </p:xfrm>
        <a:graphic>
          <a:graphicData uri="http://schemas.openxmlformats.org/drawingml/2006/table">
            <a:tbl>
              <a:tblPr/>
              <a:tblGrid>
                <a:gridCol w="684360"/>
                <a:gridCol w="4181400"/>
                <a:gridCol w="1017720"/>
                <a:gridCol w="1235160"/>
                <a:gridCol w="871200"/>
                <a:gridCol w="725760"/>
              </a:tblGrid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2016 г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за 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транспорт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0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упная сре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Бакланниковского сельского по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9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3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муниципальными финансами Бакланниковского сельского поселения на 2014-2020 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04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67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84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500040" y="214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еспечение качественными жилищно-коммунальными услугами населения Бакланниковского сельского поселени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Схема 5" descr=""/>
          <p:cNvPicPr/>
          <p:nvPr/>
        </p:nvPicPr>
        <p:blipFill>
          <a:blip r:embed="rId1"/>
          <a:stretch/>
        </p:blipFill>
        <p:spPr>
          <a:xfrm>
            <a:off x="353880" y="1779480"/>
            <a:ext cx="8582040" cy="4224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428760" y="642960"/>
            <a:ext cx="822960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Бакланниковского сельского поселения за 2016 год по доходам исполнен в сумме 14897,1 тыс.рублей или 101,6 процента к годовому плану и по расходам в сумме 14533,5 тыс.рублей или 98,3 процента. Профицит по итогам исполнения бюджета за 2016 год составил 363,6 тыс.руб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ыступили остатки бюджетных средств, сложившиеся на конец 2015 года. По сравнению с аналогичным периодом прошлого года наблюдается увеличение поступления доходов в бюджет поселения на 2558,0 тыс.рублей или на 20,7 процента, по расходам исполнение уменьшилось на 2008,7 тыс.рублей или на 13,8 проце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щита населения и территории Бакланниковского сельского поселения от чрезвычайных ситуаций, обеспечение пожарной безопасности и безопасности людей на водных объектах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351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культуры Бакланниковского сельского поселения»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43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рана окружающей среды и рациональное природопользование Бакланниковского сельского поселения»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Схема 5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582040" cy="4730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транспортной системы в Бакланниковском сельском поселении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Схема 5" descr=""/>
          <p:cNvPicPr/>
          <p:nvPr/>
        </p:nvPicPr>
        <p:blipFill>
          <a:blip r:embed="rId1"/>
          <a:stretch/>
        </p:blipFill>
        <p:spPr>
          <a:xfrm>
            <a:off x="353880" y="1852560"/>
            <a:ext cx="8582040" cy="4797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литика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Схема 5" descr=""/>
          <p:cNvPicPr/>
          <p:nvPr/>
        </p:nvPicPr>
        <p:blipFill>
          <a:blip r:embed="rId1"/>
          <a:stretch/>
        </p:blipFill>
        <p:spPr>
          <a:xfrm>
            <a:off x="281160" y="2066760"/>
            <a:ext cx="8581680" cy="3937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50004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ой  программы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правление муниципальными финансами Бакланниковского сельского поселения»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2016 году согласно утвержденных мероприятий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хема 5" descr=""/>
          <p:cNvPicPr/>
          <p:nvPr/>
        </p:nvPicPr>
        <p:blipFill>
          <a:blip r:embed="rId1"/>
          <a:stretch/>
        </p:blipFill>
        <p:spPr>
          <a:xfrm>
            <a:off x="353880" y="2494080"/>
            <a:ext cx="85820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571680" y="1143000"/>
            <a:ext cx="8001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31859c">
                  <a:alpha val="6117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285840" y="0"/>
            <a:ext cx="8569080" cy="7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5400000"/>
          </a:gra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оля остатков на лицевых счетах на 01 января 2017 г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Диаграмма 8" descr=""/>
          <p:cNvPicPr/>
          <p:nvPr/>
        </p:nvPicPr>
        <p:blipFill>
          <a:blip r:embed="rId1"/>
          <a:stretch/>
        </p:blipFill>
        <p:spPr>
          <a:xfrm>
            <a:off x="428760" y="1397160"/>
            <a:ext cx="8286480" cy="5032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7429680" y="5357880"/>
            <a:ext cx="1571400" cy="1357200"/>
          </a:xfrm>
          <a:prstGeom prst="rect">
            <a:avLst/>
          </a:prstGeom>
          <a:ln w="50760">
            <a:solidFill>
              <a:srgbClr val="632523"/>
            </a:solidFill>
            <a:miter/>
          </a:ln>
        </p:spPr>
      </p:pic>
      <p:grpSp>
        <p:nvGrpSpPr>
          <p:cNvPr id="192" name="Group 2"/>
          <p:cNvGrpSpPr/>
          <p:nvPr/>
        </p:nvGrpSpPr>
        <p:grpSpPr>
          <a:xfrm>
            <a:off x="457200" y="1731960"/>
            <a:ext cx="8228160" cy="4260960"/>
            <a:chOff x="457200" y="1731960"/>
            <a:chExt cx="8228160" cy="4260960"/>
          </a:xfrm>
        </p:grpSpPr>
        <p:pic>
          <p:nvPicPr>
            <p:cNvPr id="193" name="Picture 3" descr=""/>
            <p:cNvPicPr/>
            <p:nvPr/>
          </p:nvPicPr>
          <p:blipFill>
            <a:blip r:embed="rId2"/>
            <a:stretch/>
          </p:blipFill>
          <p:spPr>
            <a:xfrm>
              <a:off x="457200" y="1731960"/>
              <a:ext cx="8228160" cy="42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4"/>
            <p:cNvSpPr/>
            <p:nvPr/>
          </p:nvSpPr>
          <p:spPr>
            <a:xfrm>
              <a:off x="457200" y="1731960"/>
              <a:ext cx="8228160" cy="42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Text Box 5"/>
          <p:cNvSpPr/>
          <p:nvPr/>
        </p:nvSpPr>
        <p:spPr>
          <a:xfrm>
            <a:off x="4357800" y="214200"/>
            <a:ext cx="4529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ahoma"/>
                <a:ea typeface="Tahoma"/>
              </a:rPr>
              <a:t>Сектор экономики и финансов Администрации Бакланниковского сельского по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1000" autoRev="1" fill="hold"/>
                                        <p:tgtEl>
                                          <p:spTgt spid="1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1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,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за 2016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28760" y="642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в бюджет Бакланниковского сельского поселения доходов за 2014-2016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714920" y="1429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Диаграмма 4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821520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571680" y="4618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доходов бюджета Бакланниковского сельского поселения з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22400" y="1579680"/>
            <a:ext cx="8899200" cy="5271840"/>
            <a:chOff x="122400" y="1579680"/>
            <a:chExt cx="8899200" cy="527184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122400" y="1579680"/>
              <a:ext cx="8899200" cy="52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4"/>
            <p:cNvSpPr/>
            <p:nvPr/>
          </p:nvSpPr>
          <p:spPr>
            <a:xfrm>
              <a:off x="122400" y="1579680"/>
              <a:ext cx="8899200" cy="52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AutoShape 5"/>
          <p:cNvSpPr/>
          <p:nvPr/>
        </p:nvSpPr>
        <p:spPr>
          <a:xfrm>
            <a:off x="3929040" y="3071880"/>
            <a:ext cx="1285920" cy="85716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714920" y="2428920"/>
            <a:ext cx="1357200" cy="928800"/>
          </a:xfrm>
          <a:prstGeom prst="pie">
            <a:avLst/>
          </a:prstGeom>
          <a:solidFill>
            <a:srgbClr val="77933c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74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928960" y="2428920"/>
            <a:ext cx="1500120" cy="100008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74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14200" y="4643280"/>
            <a:ext cx="114300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09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71760" y="4643280"/>
            <a:ext cx="121428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5,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85880" y="5643720"/>
            <a:ext cx="1357200" cy="78552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6858000" y="5500800"/>
            <a:ext cx="1571760" cy="914400"/>
          </a:xfrm>
          <a:prstGeom prst="pi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7858080" y="4643280"/>
            <a:ext cx="1143000" cy="1000440"/>
          </a:xfrm>
          <a:prstGeom prst="pi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,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6286680" y="4643280"/>
            <a:ext cx="1214280" cy="1000440"/>
          </a:xfrm>
          <a:prstGeom prst="pie">
            <a:avLst/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3143160" y="5072040"/>
            <a:ext cx="1285920" cy="771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662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5"/>
          <p:cNvSpPr/>
          <p:nvPr/>
        </p:nvSpPr>
        <p:spPr>
          <a:xfrm>
            <a:off x="4500720" y="5072040"/>
            <a:ext cx="1271520" cy="78588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97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6"/>
          <p:cNvSpPr/>
          <p:nvPr/>
        </p:nvSpPr>
        <p:spPr>
          <a:xfrm>
            <a:off x="3786120" y="5857920"/>
            <a:ext cx="1428840" cy="7858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6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214200" y="1500120"/>
            <a:ext cx="285840" cy="285840"/>
          </a:xfrm>
          <a:prstGeom prst="roundRect">
            <a:avLst>
              <a:gd name="adj" fmla="val 37843"/>
            </a:avLst>
          </a:prstGeom>
          <a:solidFill>
            <a:srgbClr val="558ed5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428760" y="1500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чненный план на 2016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9"/>
          <p:cNvSpPr/>
          <p:nvPr/>
        </p:nvSpPr>
        <p:spPr>
          <a:xfrm>
            <a:off x="214200" y="2000160"/>
            <a:ext cx="285840" cy="285840"/>
          </a:xfrm>
          <a:prstGeom prst="roundRect">
            <a:avLst>
              <a:gd name="adj" fmla="val 50000"/>
            </a:avLst>
          </a:prstGeom>
          <a:solidFill>
            <a:srgbClr val="77933c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428760" y="200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  2016го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214200" y="2500200"/>
            <a:ext cx="285840" cy="285840"/>
          </a:xfrm>
          <a:prstGeom prst="roundRect">
            <a:avLst>
              <a:gd name="adj" fmla="val 497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571680" y="25002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% испол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ые и неналоговые доходы бюджета Бакланниковского сельского поселения исполнены в сумме 4522,9 тыс.рублей или 105,5 процента к годовым назначениям. Данный показатель увеличивает уровень аналогичного периода прошлого года на 1222,7 тыс.рублей или на 37,0 процен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ий удельный вес в структуре поступивших за 2016 год собственных доходов занимают доходы, получаемые в вид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аты акцизов за нефтепродукты, которые составили 1292,4 тыс.рублей или 28,6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ельного налога, который составил 1761,5 тыс.рублей или 38,9 процент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а на доходы физических лиц, который составил 923,0 тыс.рублей или 20,4 процен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14200" y="1500120"/>
          <a:ext cx="8715600" cy="507204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 по  подакцизным товарам (продукции), производимым на территории Российской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2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ая пош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571320"/>
            <a:ext cx="86439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     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571680" y="461880"/>
            <a:ext cx="822960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2400" y="1579680"/>
            <a:ext cx="8899200" cy="52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14200" y="1500120"/>
          <a:ext cx="8715600" cy="5132520"/>
        </p:xfrm>
        <a:graphic>
          <a:graphicData uri="http://schemas.openxmlformats.org/drawingml/2006/table">
            <a:tbl>
              <a:tblPr/>
              <a:tblGrid>
                <a:gridCol w="3329280"/>
                <a:gridCol w="1242720"/>
                <a:gridCol w="1000080"/>
                <a:gridCol w="1071720"/>
                <a:gridCol w="1285920"/>
                <a:gridCol w="785880"/>
              </a:tblGrid>
              <a:tr h="38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доход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6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ервоначально утвержденных назнач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цент исполнения за 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оначально утвержденные назнач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учетом внесенных измен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ое исполнение за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неналоговые доходы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сдачи в аренду имущества, составляющего казну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еречисления части прибыли, остающейся после уплаты налогов и иных обязательных платежей муниципальных унитарных предприят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, поступающие в порядке возмещения расходов, понесенных в связи с эксплуатацией иму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 от продажи земельных участков, находящихся в собственности сельских посел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5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нежные взыскания (штраф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уктура поступления налоговых и неналоговых доходов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(тыс.руб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e46c0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28760" y="1214280"/>
            <a:ext cx="8229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ЗВОЗМЕЗДНЫЕ ПОСТУПЛЕНИЯ</a:t>
            </a:r>
            <a:br>
              <a:rPr sz="2400"/>
            </a:b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нниковского сельского поселения включа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85840" y="2214720"/>
            <a:ext cx="814392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АЦИЮ НА ВЫРАВНИВАНИЕ УРОВНЯ БЮДЖЕТНОЙ ОБЕСПЕЧЕННОСТИ  ПОСЕЛЕНИ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 БЮДЖЕТУ ПОСЕЛЕНИЯ НА ОСУЩЕСТВЛЕНИЕ ПЕРВИЧНОГО ВОИНСКОГО УЧЕТА НА ТЕРРИТОРИЯХ, ГДЕ ОТСУТСТВУЮТ ВОЕННЫЕ КОМИССАРИАТ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ВЕНЦИИ БЮДЖЕТУ ПОСЕЛЕНИЯ НА ВЫПОЛНЕНИЕ ПЕРЕДАВАЕМЫХ ПОЛНОМОЧИЙ СУБЪЕКТОВ РОССИЙСКОЙ ФЕДЕРАЦИИ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ВОЗВРАТА ОСТАТКОВ СУБСИДИЙ, СУБВЕНЦИЙ И ИНЫХ МЕЖБЮДЖЕТНЫХ ТРАНСФЕРТОВ, ИМЕЮЩИХ ЦЕЛЕВОЕ НАЗНАЧЕНИЕ, ПРОШЛЫХ ЛЕТ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929120" y="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ектор экономики и финансов Администрации Бакланниковского сельского по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7572240" y="785880"/>
            <a:ext cx="1357560" cy="1500120"/>
          </a:xfrm>
          <a:prstGeom prst="rect">
            <a:avLst/>
          </a:prstGeom>
          <a:ln w="25560">
            <a:solidFill>
              <a:srgbClr val="604a7b"/>
            </a:solidFill>
            <a:miter/>
          </a:ln>
        </p:spPr>
      </p:pic>
    </p:spTree>
  </p:cSld>
  <p:transition spd="slow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</cp:lastModifiedBy>
  <cp:lastPrinted>2012-04-10T14:17:22Z</cp:lastPrinted>
  <dcterms:modified xsi:type="dcterms:W3CDTF">2017-03-20T13:03:17Z</dcterms:modified>
  <cp:revision>336</cp:revision>
  <dc:subject/>
  <dc:title>Слайд 1</dc:title>
</cp:coreProperties>
</file>