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42080" cy="987264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629">
                <a:moveTo>
                  <a:pt x="5" y="0"/>
                </a:moveTo>
                <a:arcTo wR="5" hR="5" stAng="16200000" swAng="-5400000"/>
                <a:lnTo>
                  <a:pt x="0" y="31624"/>
                </a:lnTo>
                <a:arcTo wR="5" hR="5" stAng="10800000" swAng="-5400000"/>
                <a:lnTo>
                  <a:pt x="21595" y="316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38178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13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93790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178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2F3948-0498-421E-B8FD-A1455FE3757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1C9587-7D6B-4941-A91E-6C1F798080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951205-B639-4158-8DF5-C5C81B5019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ADF517-C9CF-4674-99E7-F94D67C25D1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F608D0-F3FD-43BA-91FB-2522C762D0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F3E07A-B945-4B2C-821E-5DA3C0540C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87DAD6-F700-418E-B58B-A52B74BEA9A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30B269-18B6-4E78-8ABC-C670744815A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173C6F-AA82-422E-8051-7AE32C7558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45E72A-E2B6-4325-8AA4-BD7E2293CD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2A0348-1689-4C86-9CC4-970927747A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C74EC5-ED69-4765-BC6B-ACB0B08E39F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26A73E-4830-4AE9-843F-DCED97AE8CB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B2B3CF-BD66-4110-944A-4022791F6E7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314E2F-32CB-418C-898E-51CF855A2C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D73209-D7FF-413B-AD8F-E63433D2326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E467D8-17B2-47BB-84A3-5A11E504D69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A38A66-4EDD-4829-8EC3-48210C1347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32AD79-BA63-4B42-B746-4D9160A4FFF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2DF98A-45B0-4C8C-97E5-5C617E8D452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F11CAB-6FB3-40E2-A7EB-775DFF1B380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B1D47F-3901-4773-8687-D9FBF11DDF7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0FB8F8-732B-424B-A2A9-7159344C575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3F9622-FB4F-403A-85C2-8C483D0B2D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D179D4-176B-404C-8E2C-B1E85CAE80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94B016-EB40-4111-83B8-85EC6457CE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513551-2874-46C9-BEAC-9587DE13423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0D1F-569D-4BFB-9821-813775137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5F7D-F559-44AF-A39A-6C86066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9C71-031D-4835-98DA-3390340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AD17-35A0-4007-BE19-F76DF2543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5B892-134F-4478-94F8-2E8606F04C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34CB8-1D8D-4689-A0F4-2B28E006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CCC42-C795-4EE6-A6C5-3642260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8ED50-2419-4773-B507-65D4FD9C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7CABF-60F6-41AA-ABA9-48F66399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CA4A4-72B3-449D-A3E0-64552E9B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917A6-AEE5-44FE-B7EE-DF4C0654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87AF-558F-4D5C-81E4-AE271C8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BADD9-4037-4746-BFA3-3E0BFA83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A19F3-87B5-4C64-B875-5215E5DC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C82EA-F2C9-4342-B2D0-A817D0BC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CC600-2CBB-4EBB-8E1C-FA38264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DDDF8-5F60-4496-9750-383C6BF51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FEAE-5D64-476D-84BD-15848D44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91B1-0D60-43EA-A37F-6AFF75BF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05D2-0D06-4888-A1D8-A0AF2383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99BA-CBD2-444D-9AA7-F164E0E6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48B3-1C8E-4815-A117-5425F270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6218-DA4E-46A0-999F-7FE8C023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FA23-3327-4A45-B6BB-24B06BC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28F1C2-1ED4-49DF-9689-ACE4E7FDC91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A48BA8-18AE-4A56-87F6-C9E40C9C273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5437080" y="3651120"/>
            <a:ext cx="2998800" cy="2997360"/>
            <a:chOff x="5437080" y="3651120"/>
            <a:chExt cx="2998800" cy="299736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5437080" y="3651120"/>
              <a:ext cx="29988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5437080" y="3651120"/>
              <a:ext cx="2998800" cy="29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28760" y="116352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об исполнении бюджета Бакланниковского сельского посел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2014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2643120" cy="278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357120" y="1000080"/>
            <a:ext cx="83581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357120" y="103320"/>
            <a:ext cx="842976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ссовое исполнение бюджета Бакланниковского сельского поселения за 2014 год по всем видам расходов  – 14 197,9 тыс.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929280" y="1643040"/>
            <a:ext cx="171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Диаграмма 7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труктура кассовых рас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14200" y="887400"/>
          <a:ext cx="8788680" cy="5519880"/>
        </p:xfrm>
        <a:graphic>
          <a:graphicData uri="http://schemas.openxmlformats.org/drawingml/2006/table">
            <a:tbl>
              <a:tblPr/>
              <a:tblGrid>
                <a:gridCol w="2909880"/>
                <a:gridCol w="1376640"/>
                <a:gridCol w="1423800"/>
                <a:gridCol w="1332000"/>
                <a:gridCol w="1746360"/>
              </a:tblGrid>
              <a:tr h="30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за 2014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Справо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ahoma"/>
                        </a:rPr>
                        <a:t>Исп. 2014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. 2013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1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одовые планов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зна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2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1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56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90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4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30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25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45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45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редства массовой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91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19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65" name="Text Box 170"/>
          <p:cNvSpPr/>
          <p:nvPr/>
        </p:nvSpPr>
        <p:spPr>
          <a:xfrm>
            <a:off x="7643880" y="5000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акланниковского сельского посе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министрацией Бакланниковского сельского поселения на 2014 год сформированы и утверждены 13 муниципальных программ. Из них 9 муниципальных программ подлежат финансированию. На реализацию принятых муниципальных программ, с учетов внесенных уточнений, в 2014 году  предусмотрено 13 825,5 тыс.рублей, это 97,4 % расходов бюджета по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4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358040" y="1052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5840" y="1397160"/>
          <a:ext cx="8643960" cy="5416560"/>
        </p:xfrm>
        <a:graphic>
          <a:graphicData uri="http://schemas.openxmlformats.org/drawingml/2006/table">
            <a:tbl>
              <a:tblPr/>
              <a:tblGrid>
                <a:gridCol w="500040"/>
                <a:gridCol w="4357800"/>
                <a:gridCol w="1071360"/>
                <a:gridCol w="1071720"/>
                <a:gridCol w="1000080"/>
                <a:gridCol w="642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ый план 201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201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а за 201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жилищно-коммунальными услугами населения Бакланниковского сельского поселения на 2014-2020 г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общественного порядка на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населения и территории Бакланниковского сельского поселения от чрезвычайных ситуаций, обеспечение пожарной безопасности и безопасности людей 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 и рациональное природополь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физической культуры и спорта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ени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4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7286760" y="105264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14200" y="1576440"/>
          <a:ext cx="8572680" cy="3138480"/>
        </p:xfrm>
        <a:graphic>
          <a:graphicData uri="http://schemas.openxmlformats.org/drawingml/2006/table">
            <a:tbl>
              <a:tblPr/>
              <a:tblGrid>
                <a:gridCol w="673200"/>
                <a:gridCol w="4113360"/>
                <a:gridCol w="1000080"/>
                <a:gridCol w="1071360"/>
                <a:gridCol w="928800"/>
                <a:gridCol w="785880"/>
              </a:tblGrid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201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201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а за 201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ранспорт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Бакланниковского сельского 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и финансам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77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82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11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500040" y="214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спечение качественными жилищно-коммунальными услугами населения Бакланниковского сельского поселени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Схема 5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58204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щита населения и территории Бакланниковского сельского поселения от чрезвычайных ситуаций, обеспечение пожарной безопасности и безопасности людей на водных объектах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культуры Бакланниковского сельского поселения»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окружающей среды и рациональное природопользование Бакланниковского сельского поселения»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транспортной системы в Бакланниковском сельском поселении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28760" y="64296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Бакланниковского сельского поселения за 2014 год по доходам исполнен в сумме 18 486,8 тыс.рублей или 124,2 процента к годовому плану и по расходам в сумме      14 197,8 тыс.рублей или 95,2 процента. Профицит по итогам исполнения бюджета за 2014 год составил 4289,0 тыс.рублей. На увеличение доходной части бюджета Бакланниковского сельского поселения и получения профицита по доходам повлияли поступления в конце года доходов от продажи земельных участ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авнению с аналогичным периодом прошлого года наблюдается увеличение поступления доходов в бюджет поселения на 929,0 тыс.рублей или на 5,3 процентов, по расходам исполнение снизилось на 3519,8 тыс.рублей или 19,9 проц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лагоустройство территори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итика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муниципальными финансам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571680" y="1143000"/>
            <a:ext cx="8001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5840" y="0"/>
            <a:ext cx="856908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ля остатков на лицевых счетах на 01 января 2015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Диаграмма 8" descr=""/>
          <p:cNvPicPr/>
          <p:nvPr/>
        </p:nvPicPr>
        <p:blipFill>
          <a:blip r:embed="rId1"/>
          <a:stretch/>
        </p:blipFill>
        <p:spPr>
          <a:xfrm>
            <a:off x="428760" y="1397160"/>
            <a:ext cx="8286480" cy="50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7429680" y="5357880"/>
            <a:ext cx="1571400" cy="1357200"/>
          </a:xfrm>
          <a:prstGeom prst="rect">
            <a:avLst/>
          </a:prstGeom>
          <a:ln w="50760">
            <a:solidFill>
              <a:srgbClr val="632523"/>
            </a:solidFill>
            <a:miter/>
          </a:ln>
        </p:spPr>
      </p:pic>
      <p:grpSp>
        <p:nvGrpSpPr>
          <p:cNvPr id="295" name="Group 2"/>
          <p:cNvGrpSpPr/>
          <p:nvPr/>
        </p:nvGrpSpPr>
        <p:grpSpPr>
          <a:xfrm>
            <a:off x="457200" y="1731960"/>
            <a:ext cx="8228160" cy="4260960"/>
            <a:chOff x="457200" y="1731960"/>
            <a:chExt cx="8228160" cy="4260960"/>
          </a:xfrm>
        </p:grpSpPr>
        <p:pic>
          <p:nvPicPr>
            <p:cNvPr id="296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" y="1731960"/>
              <a:ext cx="822816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"/>
            <p:cNvSpPr/>
            <p:nvPr/>
          </p:nvSpPr>
          <p:spPr>
            <a:xfrm>
              <a:off x="457200" y="1731960"/>
              <a:ext cx="822816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Text Box 5"/>
          <p:cNvSpPr/>
          <p:nvPr/>
        </p:nvSpPr>
        <p:spPr>
          <a:xfrm>
            <a:off x="4357800" y="214200"/>
            <a:ext cx="4529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  <a:ea typeface="Tahoma"/>
              </a:rPr>
              <a:t>Сектор экономики и финансов Администрации Бакланниковского сельского по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2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4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71680" y="4618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ходы бюджета Бакланниковского сельского поселения за 2014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122400" y="1579680"/>
            <a:ext cx="8897760" cy="5270400"/>
            <a:chOff x="122400" y="1579680"/>
            <a:chExt cx="8897760" cy="527040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122400" y="1579680"/>
              <a:ext cx="889776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122400" y="1579680"/>
              <a:ext cx="8897760" cy="52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AutoShape 5"/>
          <p:cNvSpPr/>
          <p:nvPr/>
        </p:nvSpPr>
        <p:spPr>
          <a:xfrm>
            <a:off x="3929040" y="3071880"/>
            <a:ext cx="1285920" cy="8571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714920" y="2428920"/>
            <a:ext cx="1285920" cy="928800"/>
          </a:xfrm>
          <a:prstGeom prst="pie">
            <a:avLst/>
          </a:prstGeom>
          <a:solidFill>
            <a:srgbClr val="77933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29,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3143160" y="2428920"/>
            <a:ext cx="1285920" cy="100008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77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4200" y="4643280"/>
            <a:ext cx="114300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11,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571760" y="4643280"/>
            <a:ext cx="121428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45,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785880" y="5643720"/>
            <a:ext cx="1357200" cy="78552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,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7072200" y="5500800"/>
            <a:ext cx="1285920" cy="9144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,4 р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7858080" y="4643280"/>
            <a:ext cx="128592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12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6286680" y="4643280"/>
            <a:ext cx="121428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3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3143160" y="5072040"/>
            <a:ext cx="1285920" cy="77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82,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4500720" y="5072040"/>
            <a:ext cx="1271520" cy="78588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486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3857760" y="5857920"/>
            <a:ext cx="1214280" cy="7858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,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214200" y="1500120"/>
            <a:ext cx="285840" cy="285840"/>
          </a:xfrm>
          <a:prstGeom prst="roundRect">
            <a:avLst>
              <a:gd name="adj" fmla="val 37843"/>
            </a:avLst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28760" y="1500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ный план на 2014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214200" y="2000160"/>
            <a:ext cx="285840" cy="285840"/>
          </a:xfrm>
          <a:prstGeom prst="roundRect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28760" y="200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  2014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214200" y="2500200"/>
            <a:ext cx="285840" cy="285840"/>
          </a:xfrm>
          <a:prstGeom prst="roundRect">
            <a:avLst>
              <a:gd name="adj" fmla="val 497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71680" y="25002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% 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71680" y="461880"/>
            <a:ext cx="822960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и неналоговые доходы бюджета Бакланниковского сельского поселения исполнены в сумме   8557,6 тыс.рублей или 174,5 процентов к годовым назначениям. Данный показатель увеличивает уровень аналогичного периода прошлого года в 1,8 раза. Наибольший удельный вес в структуре поступивших за 2014 год собственных доходов занимают доходы, получаемые в ви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дной платы за земельные участки, государственная собственность на которые не разграничена и которые составили 1164,3 тыс.рублей или 13,6 проц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ы акцизов за нефтепродукты, которая составила         1488,4 тыс.рублей или 17,4 проц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жи земельных участков, государственная собственность на которые не разграничена, и которая составила 4 370,3 тыс.рублей или 51,1 проц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00040" y="23760"/>
            <a:ext cx="822960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ление налоговых и неналоговых доходов за 2014 го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557,6 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 flipV="1">
            <a:off x="2124000" y="357192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214200" y="2000160"/>
            <a:ext cx="4082760" cy="569880"/>
            <a:chOff x="214200" y="2000160"/>
            <a:chExt cx="4082760" cy="569880"/>
          </a:xfrm>
        </p:grpSpPr>
        <p:sp>
          <p:nvSpPr>
            <p:cNvPr id="130" name="Rectangle 4"/>
            <p:cNvSpPr/>
            <p:nvPr/>
          </p:nvSpPr>
          <p:spPr>
            <a:xfrm>
              <a:off x="3011760" y="2000160"/>
              <a:ext cx="1285200" cy="569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% исполнения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061000" y="2000160"/>
              <a:ext cx="951840" cy="569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Откло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083600" y="2000160"/>
              <a:ext cx="997920" cy="569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Факт за         2013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4200" y="2000160"/>
              <a:ext cx="940680" cy="569880"/>
            </a:xfrm>
            <a:prstGeom prst="rect">
              <a:avLst/>
            </a:prstGeom>
            <a:solidFill>
              <a:srgbClr val="c3d6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Факт за       2014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214200" y="2643120"/>
            <a:ext cx="4073760" cy="569880"/>
            <a:chOff x="214200" y="2643120"/>
            <a:chExt cx="4073760" cy="569880"/>
          </a:xfrm>
        </p:grpSpPr>
        <p:sp>
          <p:nvSpPr>
            <p:cNvPr id="135" name="Rectangle 9"/>
            <p:cNvSpPr/>
            <p:nvPr/>
          </p:nvSpPr>
          <p:spPr>
            <a:xfrm>
              <a:off x="3024360" y="2978280"/>
              <a:ext cx="1261800" cy="231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61,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087640" y="2978280"/>
              <a:ext cx="934920" cy="231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318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1149480" y="2978280"/>
              <a:ext cx="938160" cy="23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836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214200" y="2978280"/>
              <a:ext cx="935280" cy="2314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18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14200" y="2643120"/>
              <a:ext cx="40719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 НА ДОХОДЫ ФИЗИЧЕСКИХ ЛИЦ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214200" y="2643120"/>
              <a:ext cx="407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214200" y="3211560"/>
              <a:ext cx="407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>
              <a:off x="214200" y="2643120"/>
              <a:ext cx="180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4286160" y="2643120"/>
              <a:ext cx="180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>
              <a:off x="114948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0"/>
            <p:cNvSpPr/>
            <p:nvPr/>
          </p:nvSpPr>
          <p:spPr>
            <a:xfrm>
              <a:off x="208764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302436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22"/>
          <p:cNvSpPr/>
          <p:nvPr/>
        </p:nvSpPr>
        <p:spPr>
          <a:xfrm>
            <a:off x="3000240" y="3714840"/>
            <a:ext cx="1285920" cy="28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,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2071800" y="3714840"/>
            <a:ext cx="938160" cy="285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+1488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1143000" y="3714840"/>
            <a:ext cx="939960" cy="28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228600" y="3714840"/>
            <a:ext cx="925560" cy="2858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88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214200" y="3357720"/>
            <a:ext cx="4067280" cy="35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ХОДЫ ОТ УПЛАТЫ АКЦИЗОВ НА НЕФТЕПРОДУ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214200" y="3357720"/>
            <a:ext cx="406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214200" y="3357720"/>
            <a:ext cx="18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>
            <a:off x="4286160" y="3357720"/>
            <a:ext cx="18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30"/>
          <p:cNvSpPr/>
          <p:nvPr/>
        </p:nvSpPr>
        <p:spPr>
          <a:xfrm>
            <a:off x="214200" y="3714840"/>
            <a:ext cx="406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>
            <a:off x="1143000" y="3714840"/>
            <a:ext cx="144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2071800" y="3714840"/>
            <a:ext cx="144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228600" y="4567320"/>
            <a:ext cx="40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4"/>
          <p:cNvSpPr/>
          <p:nvPr/>
        </p:nvSpPr>
        <p:spPr>
          <a:xfrm>
            <a:off x="228600" y="4919760"/>
            <a:ext cx="4067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6"/>
          <p:cNvSpPr/>
          <p:nvPr/>
        </p:nvSpPr>
        <p:spPr>
          <a:xfrm flipV="1">
            <a:off x="2357280" y="1784520"/>
            <a:ext cx="7858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 flipV="1">
            <a:off x="6070680" y="1784520"/>
            <a:ext cx="8604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8"/>
          <p:cNvGrpSpPr/>
          <p:nvPr/>
        </p:nvGrpSpPr>
        <p:grpSpPr>
          <a:xfrm>
            <a:off x="4857840" y="2714760"/>
            <a:ext cx="4065120" cy="1140840"/>
            <a:chOff x="4857840" y="2714760"/>
            <a:chExt cx="4065120" cy="1140840"/>
          </a:xfrm>
        </p:grpSpPr>
        <p:sp>
          <p:nvSpPr>
            <p:cNvPr id="163" name="Rectangle 39"/>
            <p:cNvSpPr/>
            <p:nvPr/>
          </p:nvSpPr>
          <p:spPr>
            <a:xfrm>
              <a:off x="7661880" y="3450600"/>
              <a:ext cx="1259280" cy="40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2,3 РА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40"/>
            <p:cNvSpPr/>
            <p:nvPr/>
          </p:nvSpPr>
          <p:spPr>
            <a:xfrm>
              <a:off x="6727680" y="3450600"/>
              <a:ext cx="933840" cy="4017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+670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41"/>
            <p:cNvSpPr/>
            <p:nvPr/>
          </p:nvSpPr>
          <p:spPr>
            <a:xfrm>
              <a:off x="5791680" y="3450600"/>
              <a:ext cx="935640" cy="401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526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42"/>
            <p:cNvSpPr/>
            <p:nvPr/>
          </p:nvSpPr>
          <p:spPr>
            <a:xfrm>
              <a:off x="4857840" y="3450600"/>
              <a:ext cx="933840" cy="40176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197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43"/>
            <p:cNvSpPr/>
            <p:nvPr/>
          </p:nvSpPr>
          <p:spPr>
            <a:xfrm>
              <a:off x="4857840" y="2714760"/>
              <a:ext cx="4063680" cy="75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ХОДЫ  ОТ ИСПОЛЬЗОВАНИЯ ИМУЩЕСТВА, НАХОДЯЩЕГОСЯ В ГОСУДАРСТВЕННОЙ И МУНИЦИПАЛЬНОЙ СОБСТВЕННОСТ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857840" y="3854520"/>
              <a:ext cx="4063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57840" y="2869560"/>
              <a:ext cx="10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>
              <a:off x="8921520" y="2869560"/>
              <a:ext cx="144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47"/>
            <p:cNvSpPr/>
            <p:nvPr/>
          </p:nvSpPr>
          <p:spPr>
            <a:xfrm>
              <a:off x="4857840" y="345060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48"/>
            <p:cNvSpPr/>
            <p:nvPr/>
          </p:nvSpPr>
          <p:spPr>
            <a:xfrm>
              <a:off x="5791680" y="3450600"/>
              <a:ext cx="10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49"/>
            <p:cNvSpPr/>
            <p:nvPr/>
          </p:nvSpPr>
          <p:spPr>
            <a:xfrm>
              <a:off x="6727680" y="3450600"/>
              <a:ext cx="10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50"/>
            <p:cNvSpPr/>
            <p:nvPr/>
          </p:nvSpPr>
          <p:spPr>
            <a:xfrm>
              <a:off x="7661880" y="345060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Line 51"/>
          <p:cNvSpPr/>
          <p:nvPr/>
        </p:nvSpPr>
        <p:spPr>
          <a:xfrm>
            <a:off x="4859280" y="3833640"/>
            <a:ext cx="4067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2"/>
          <p:cNvSpPr/>
          <p:nvPr/>
        </p:nvSpPr>
        <p:spPr>
          <a:xfrm>
            <a:off x="4859280" y="4981680"/>
            <a:ext cx="4067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53"/>
          <p:cNvSpPr/>
          <p:nvPr/>
        </p:nvSpPr>
        <p:spPr>
          <a:xfrm>
            <a:off x="4857840" y="4714920"/>
            <a:ext cx="40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4"/>
          <p:cNvGrpSpPr/>
          <p:nvPr/>
        </p:nvGrpSpPr>
        <p:grpSpPr>
          <a:xfrm>
            <a:off x="214200" y="4071960"/>
            <a:ext cx="4065480" cy="566280"/>
            <a:chOff x="214200" y="4071960"/>
            <a:chExt cx="4065480" cy="566280"/>
          </a:xfrm>
        </p:grpSpPr>
        <p:sp>
          <p:nvSpPr>
            <p:cNvPr id="179" name="Rectangle 55"/>
            <p:cNvSpPr/>
            <p:nvPr/>
          </p:nvSpPr>
          <p:spPr>
            <a:xfrm>
              <a:off x="3018960" y="4404600"/>
              <a:ext cx="1259280" cy="230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69,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56"/>
            <p:cNvSpPr/>
            <p:nvPr/>
          </p:nvSpPr>
          <p:spPr>
            <a:xfrm>
              <a:off x="2084400" y="4404600"/>
              <a:ext cx="934560" cy="23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23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1148760" y="4404600"/>
              <a:ext cx="935640" cy="230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75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58"/>
            <p:cNvSpPr/>
            <p:nvPr/>
          </p:nvSpPr>
          <p:spPr>
            <a:xfrm>
              <a:off x="214200" y="4404600"/>
              <a:ext cx="934560" cy="23040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2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59"/>
            <p:cNvSpPr/>
            <p:nvPr/>
          </p:nvSpPr>
          <p:spPr>
            <a:xfrm>
              <a:off x="214200" y="4071960"/>
              <a:ext cx="4064400" cy="3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И НА СОВОКУПНЫЙ ДОХО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60"/>
            <p:cNvSpPr/>
            <p:nvPr/>
          </p:nvSpPr>
          <p:spPr>
            <a:xfrm>
              <a:off x="214200" y="407196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61"/>
            <p:cNvSpPr/>
            <p:nvPr/>
          </p:nvSpPr>
          <p:spPr>
            <a:xfrm>
              <a:off x="214200" y="463716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2"/>
            <p:cNvSpPr/>
            <p:nvPr/>
          </p:nvSpPr>
          <p:spPr>
            <a:xfrm>
              <a:off x="214200" y="4071960"/>
              <a:ext cx="144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63"/>
            <p:cNvSpPr/>
            <p:nvPr/>
          </p:nvSpPr>
          <p:spPr>
            <a:xfrm>
              <a:off x="4278600" y="4071960"/>
              <a:ext cx="108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64"/>
            <p:cNvSpPr/>
            <p:nvPr/>
          </p:nvSpPr>
          <p:spPr>
            <a:xfrm>
              <a:off x="214200" y="4404600"/>
              <a:ext cx="406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65"/>
            <p:cNvSpPr/>
            <p:nvPr/>
          </p:nvSpPr>
          <p:spPr>
            <a:xfrm>
              <a:off x="1148760" y="4404600"/>
              <a:ext cx="1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2084400" y="4404600"/>
              <a:ext cx="144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018960" y="4404600"/>
              <a:ext cx="1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68"/>
          <p:cNvGrpSpPr/>
          <p:nvPr/>
        </p:nvGrpSpPr>
        <p:grpSpPr>
          <a:xfrm>
            <a:off x="4857840" y="2000160"/>
            <a:ext cx="4069800" cy="569880"/>
            <a:chOff x="4857840" y="2000160"/>
            <a:chExt cx="4069800" cy="569880"/>
          </a:xfrm>
        </p:grpSpPr>
        <p:sp>
          <p:nvSpPr>
            <p:cNvPr id="193" name="Rectangle 69"/>
            <p:cNvSpPr/>
            <p:nvPr/>
          </p:nvSpPr>
          <p:spPr>
            <a:xfrm>
              <a:off x="7697880" y="2000160"/>
              <a:ext cx="1229760" cy="569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% исполнения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70"/>
            <p:cNvSpPr/>
            <p:nvPr/>
          </p:nvSpPr>
          <p:spPr>
            <a:xfrm>
              <a:off x="6731640" y="2000160"/>
              <a:ext cx="964440" cy="569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Откло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1"/>
            <p:cNvSpPr/>
            <p:nvPr/>
          </p:nvSpPr>
          <p:spPr>
            <a:xfrm>
              <a:off x="5742720" y="2000160"/>
              <a:ext cx="988560" cy="569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Факт за       2013 год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72"/>
            <p:cNvSpPr/>
            <p:nvPr/>
          </p:nvSpPr>
          <p:spPr>
            <a:xfrm>
              <a:off x="4857840" y="2000160"/>
              <a:ext cx="953280" cy="569880"/>
            </a:xfrm>
            <a:prstGeom prst="rect">
              <a:avLst/>
            </a:prstGeom>
            <a:solidFill>
              <a:srgbClr val="c3d6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Факт за        2014 год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Rectangle 73"/>
          <p:cNvSpPr/>
          <p:nvPr/>
        </p:nvSpPr>
        <p:spPr>
          <a:xfrm>
            <a:off x="4857840" y="3929040"/>
            <a:ext cx="406872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ХОДЫ ОТ ПРОДАЖИ МАТЕРИАЛЬНЫХ И НЕМАТЕРИАЛЬНЫХ АКТИВ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4857840" y="4357800"/>
            <a:ext cx="925560" cy="314280"/>
          </a:xfrm>
          <a:prstGeom prst="rect">
            <a:avLst/>
          </a:prstGeom>
          <a:solidFill>
            <a:srgbClr val="c3d69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610,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5"/>
          <p:cNvSpPr/>
          <p:nvPr/>
        </p:nvSpPr>
        <p:spPr>
          <a:xfrm>
            <a:off x="5786280" y="4357800"/>
            <a:ext cx="939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703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6"/>
          <p:cNvSpPr/>
          <p:nvPr/>
        </p:nvSpPr>
        <p:spPr>
          <a:xfrm>
            <a:off x="6715080" y="4357800"/>
            <a:ext cx="928800" cy="314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+1907,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7"/>
          <p:cNvSpPr/>
          <p:nvPr/>
        </p:nvSpPr>
        <p:spPr>
          <a:xfrm>
            <a:off x="7643880" y="4357800"/>
            <a:ext cx="1285920" cy="32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0,6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78"/>
          <p:cNvGrpSpPr/>
          <p:nvPr/>
        </p:nvGrpSpPr>
        <p:grpSpPr>
          <a:xfrm>
            <a:off x="214200" y="4714920"/>
            <a:ext cx="4065480" cy="640800"/>
            <a:chOff x="214200" y="4714920"/>
            <a:chExt cx="4065480" cy="640800"/>
          </a:xfrm>
        </p:grpSpPr>
        <p:sp>
          <p:nvSpPr>
            <p:cNvPr id="203" name="Rectangle 79"/>
            <p:cNvSpPr/>
            <p:nvPr/>
          </p:nvSpPr>
          <p:spPr>
            <a:xfrm>
              <a:off x="3018960" y="5092200"/>
              <a:ext cx="125928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24,2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80"/>
            <p:cNvSpPr/>
            <p:nvPr/>
          </p:nvSpPr>
          <p:spPr>
            <a:xfrm>
              <a:off x="2084400" y="5092200"/>
              <a:ext cx="93456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+126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81"/>
            <p:cNvSpPr/>
            <p:nvPr/>
          </p:nvSpPr>
          <p:spPr>
            <a:xfrm>
              <a:off x="1148760" y="509220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25,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82"/>
            <p:cNvSpPr/>
            <p:nvPr/>
          </p:nvSpPr>
          <p:spPr>
            <a:xfrm>
              <a:off x="214200" y="5092200"/>
              <a:ext cx="93456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652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83"/>
            <p:cNvSpPr/>
            <p:nvPr/>
          </p:nvSpPr>
          <p:spPr>
            <a:xfrm>
              <a:off x="214200" y="4714920"/>
              <a:ext cx="406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И НА ИМУЩЕ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84"/>
            <p:cNvSpPr/>
            <p:nvPr/>
          </p:nvSpPr>
          <p:spPr>
            <a:xfrm>
              <a:off x="214200" y="471492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5"/>
            <p:cNvSpPr/>
            <p:nvPr/>
          </p:nvSpPr>
          <p:spPr>
            <a:xfrm>
              <a:off x="214200" y="535464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86"/>
            <p:cNvSpPr/>
            <p:nvPr/>
          </p:nvSpPr>
          <p:spPr>
            <a:xfrm>
              <a:off x="214200" y="471492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87"/>
            <p:cNvSpPr/>
            <p:nvPr/>
          </p:nvSpPr>
          <p:spPr>
            <a:xfrm>
              <a:off x="4278600" y="471492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>
              <a:off x="214200" y="509220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89"/>
            <p:cNvSpPr/>
            <p:nvPr/>
          </p:nvSpPr>
          <p:spPr>
            <a:xfrm>
              <a:off x="1148760" y="50922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90"/>
            <p:cNvSpPr/>
            <p:nvPr/>
          </p:nvSpPr>
          <p:spPr>
            <a:xfrm>
              <a:off x="2084400" y="509220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91"/>
            <p:cNvSpPr/>
            <p:nvPr/>
          </p:nvSpPr>
          <p:spPr>
            <a:xfrm>
              <a:off x="3018960" y="50922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92"/>
          <p:cNvGrpSpPr/>
          <p:nvPr/>
        </p:nvGrpSpPr>
        <p:grpSpPr>
          <a:xfrm>
            <a:off x="214200" y="5500800"/>
            <a:ext cx="4065480" cy="640800"/>
            <a:chOff x="214200" y="5500800"/>
            <a:chExt cx="4065480" cy="640800"/>
          </a:xfrm>
        </p:grpSpPr>
        <p:sp>
          <p:nvSpPr>
            <p:cNvPr id="217" name="Rectangle 93"/>
            <p:cNvSpPr/>
            <p:nvPr/>
          </p:nvSpPr>
          <p:spPr>
            <a:xfrm>
              <a:off x="2998080" y="5856120"/>
              <a:ext cx="125964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87,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94"/>
            <p:cNvSpPr/>
            <p:nvPr/>
          </p:nvSpPr>
          <p:spPr>
            <a:xfrm>
              <a:off x="2084400" y="5878080"/>
              <a:ext cx="93456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4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95"/>
            <p:cNvSpPr/>
            <p:nvPr/>
          </p:nvSpPr>
          <p:spPr>
            <a:xfrm>
              <a:off x="1148760" y="587808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39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6"/>
            <p:cNvSpPr/>
            <p:nvPr/>
          </p:nvSpPr>
          <p:spPr>
            <a:xfrm>
              <a:off x="214200" y="5878080"/>
              <a:ext cx="93456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34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97"/>
            <p:cNvSpPr/>
            <p:nvPr/>
          </p:nvSpPr>
          <p:spPr>
            <a:xfrm>
              <a:off x="214200" y="5500800"/>
              <a:ext cx="406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ОСУДАРСТВЕННАЯ ПОШЛИ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98"/>
            <p:cNvSpPr/>
            <p:nvPr/>
          </p:nvSpPr>
          <p:spPr>
            <a:xfrm>
              <a:off x="214200" y="550080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99"/>
            <p:cNvSpPr/>
            <p:nvPr/>
          </p:nvSpPr>
          <p:spPr>
            <a:xfrm>
              <a:off x="214200" y="614052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00"/>
            <p:cNvSpPr/>
            <p:nvPr/>
          </p:nvSpPr>
          <p:spPr>
            <a:xfrm>
              <a:off x="214200" y="550080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01"/>
            <p:cNvSpPr/>
            <p:nvPr/>
          </p:nvSpPr>
          <p:spPr>
            <a:xfrm>
              <a:off x="4278600" y="550080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02"/>
            <p:cNvSpPr/>
            <p:nvPr/>
          </p:nvSpPr>
          <p:spPr>
            <a:xfrm>
              <a:off x="214200" y="587808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03"/>
            <p:cNvSpPr/>
            <p:nvPr/>
          </p:nvSpPr>
          <p:spPr>
            <a:xfrm>
              <a:off x="1148760" y="587808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104"/>
            <p:cNvSpPr/>
            <p:nvPr/>
          </p:nvSpPr>
          <p:spPr>
            <a:xfrm>
              <a:off x="2084400" y="587808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05"/>
            <p:cNvSpPr/>
            <p:nvPr/>
          </p:nvSpPr>
          <p:spPr>
            <a:xfrm>
              <a:off x="3018960" y="587808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106"/>
          <p:cNvGrpSpPr/>
          <p:nvPr/>
        </p:nvGrpSpPr>
        <p:grpSpPr>
          <a:xfrm>
            <a:off x="4857840" y="4929120"/>
            <a:ext cx="4065120" cy="641160"/>
            <a:chOff x="4857840" y="4929120"/>
            <a:chExt cx="4065120" cy="641160"/>
          </a:xfrm>
        </p:grpSpPr>
        <p:sp>
          <p:nvSpPr>
            <p:cNvPr id="231" name="Rectangle 107"/>
            <p:cNvSpPr/>
            <p:nvPr/>
          </p:nvSpPr>
          <p:spPr>
            <a:xfrm>
              <a:off x="7661880" y="5306400"/>
              <a:ext cx="125928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7,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08"/>
            <p:cNvSpPr/>
            <p:nvPr/>
          </p:nvSpPr>
          <p:spPr>
            <a:xfrm>
              <a:off x="6727680" y="5306400"/>
              <a:ext cx="93384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21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09"/>
            <p:cNvSpPr/>
            <p:nvPr/>
          </p:nvSpPr>
          <p:spPr>
            <a:xfrm>
              <a:off x="5791680" y="530640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25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10"/>
            <p:cNvSpPr/>
            <p:nvPr/>
          </p:nvSpPr>
          <p:spPr>
            <a:xfrm>
              <a:off x="4857840" y="5306400"/>
              <a:ext cx="93384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11"/>
            <p:cNvSpPr/>
            <p:nvPr/>
          </p:nvSpPr>
          <p:spPr>
            <a:xfrm>
              <a:off x="4857840" y="4929120"/>
              <a:ext cx="406368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12"/>
            <p:cNvSpPr/>
            <p:nvPr/>
          </p:nvSpPr>
          <p:spPr>
            <a:xfrm>
              <a:off x="4857840" y="492912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13"/>
            <p:cNvSpPr/>
            <p:nvPr/>
          </p:nvSpPr>
          <p:spPr>
            <a:xfrm>
              <a:off x="4857840" y="556884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114"/>
            <p:cNvSpPr/>
            <p:nvPr/>
          </p:nvSpPr>
          <p:spPr>
            <a:xfrm>
              <a:off x="4857840" y="492912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15"/>
            <p:cNvSpPr/>
            <p:nvPr/>
          </p:nvSpPr>
          <p:spPr>
            <a:xfrm>
              <a:off x="8921520" y="492912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16"/>
            <p:cNvSpPr/>
            <p:nvPr/>
          </p:nvSpPr>
          <p:spPr>
            <a:xfrm>
              <a:off x="4857840" y="530640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17"/>
            <p:cNvSpPr/>
            <p:nvPr/>
          </p:nvSpPr>
          <p:spPr>
            <a:xfrm>
              <a:off x="5791680" y="53064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18"/>
            <p:cNvSpPr/>
            <p:nvPr/>
          </p:nvSpPr>
          <p:spPr>
            <a:xfrm>
              <a:off x="6727680" y="53064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9"/>
            <p:cNvSpPr/>
            <p:nvPr/>
          </p:nvSpPr>
          <p:spPr>
            <a:xfrm>
              <a:off x="7661880" y="530640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Rectangle 120"/>
          <p:cNvSpPr/>
          <p:nvPr/>
        </p:nvSpPr>
        <p:spPr>
          <a:xfrm>
            <a:off x="7429680" y="150012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ыс. руб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121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ВОЗМЕЗДНЫЕ ПОСТУПЛЕНИЯ</a:t>
            </a:r>
            <a:br>
              <a:rPr sz="24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нниковского сельского поселения включа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ТАЦИЮ НА ВЫРАВНИВАНИЕ УРОВНЯ БЮДЖЕТНОЙ ОБЕСПЕЧЕННОСТИ  ПОСЕЛ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БЮДЖЕТУ ПОСЕЛЕНИЯ НА ОСУЩЕСТВЛЕНИЕ ПЕРВИЧНОГО ВОИНСКОГО УЧЕТА НА ТЕРРИТОРИЯХ, ГДЕ ОТСУТСТВУЮТ ВОЕННЫЕ КОМИССАРИАТ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И БЮДЖЕТУ ПОСЕЛЕНИЯ НА ВЫПОЛНЕНИЕ ПЕРЕДАВАЕМЫХ ПОЛНОМОЧИЙ СУБЪЕКТОВ РОССИЙСКОЙ ФЕДЕРА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ВОЗВРАТА ОСТАТКОВ СУБСИДИЙ, СУБВЕНЦИЙ И ИНЫХ МЕЖБЮДЖЕТНЫХ ТРАНСФЕРТОВ, ИМЕЮЩИХ ЦЕЛЕВОЕ НАЗНАЧЕНИЕ, ПРОШЛЫХ ЛЕ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7572240" y="785880"/>
            <a:ext cx="1357560" cy="1500120"/>
          </a:xfrm>
          <a:prstGeom prst="rect">
            <a:avLst/>
          </a:prstGeom>
          <a:ln w="25560">
            <a:solidFill>
              <a:srgbClr val="604a7b"/>
            </a:solidFill>
            <a:miter/>
          </a:ln>
        </p:spPr>
      </p:pic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28760" y="285840"/>
            <a:ext cx="82296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от других бюджетов бюджетной системы Российской Федерации за 2014 год исполнены в сумме 9929,3 тыс.рублей или 99,5 процентов к годовому план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2014 года Администрации поселения из областного бюджета были выделены  средства по следующим направлениям расход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ервичного воинского учета на территориях где отсутствуют военные комиссариаты – 154,4 тыс.рублей, исполнение составило 100 проценто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ередаваемых полномочий субъектов Российской Федерации по составлению административных протоколов – 0,2 тыс.рублей, исполнение составило 100 проценто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автомобильных дорог общего пользования местного значения – 562,435 тыс.рублей, исполнение составило 99,5 процентов или 559,673 тыс.рубле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вышение заработной платы работникам культуры – 212,5 тыс.рублей, исполнение составило 100 проценто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детского игрового комплекса в п.Нижний Саловск – 150,0 тыс.рублей, исполнение составило 70,0 процентов или 105,0 тыс.рубл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858160" y="0"/>
            <a:ext cx="28584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437080" y="3651120"/>
            <a:ext cx="300060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 БЕЗВОЗМЕЗДНЫХ ПОСТУПЛЕНИ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4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9"/>
          <p:cNvSpPr/>
          <p:nvPr/>
        </p:nvSpPr>
        <p:spPr>
          <a:xfrm>
            <a:off x="309240" y="2000160"/>
            <a:ext cx="149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</cp:lastModifiedBy>
  <cp:lastPrinted>2012-04-10T14:17:22Z</cp:lastPrinted>
  <dcterms:modified xsi:type="dcterms:W3CDTF">2015-05-08T04:49:14Z</dcterms:modified>
  <cp:revision>250</cp:revision>
  <dc:subject/>
  <dc:title>Слайд 1</dc:title>
</cp:coreProperties>
</file>