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EC7166-46BA-4B89-9251-681F5F5261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E95A22-0C10-4DD6-BEED-795AA8251D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AB1207-60CA-478A-A026-5D5E509FA1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E804D0-D98E-4097-B837-1BE81085BC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0FCAE8-5499-4A91-9F86-8F3FD87CEA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526E81-6C3A-4D57-8D0B-815D6667B5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F2205-6EB7-444B-BD14-56670A68B4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A1A99-9C51-486F-8AC4-43DD6CA8E5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DACD2-ECAF-4545-A76C-DF5465961F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5047F-4635-48BB-9FC4-F87EB62FDB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3316E-8080-442D-A04F-591D5C284A5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AD7482-1520-439A-8256-A1C945AD11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41F03D-144F-493A-B04B-E011D0F132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FFA0B-1377-4B2F-B8F4-7E7388B90D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58E492-3670-40F5-916E-C09D6CB316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8E5D39-0C49-474F-A44C-10001E63B8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ABD285-0ED0-4044-A77C-FEFF50203D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00343-4CE0-45B0-A7BA-E921ED1A94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4611B4-CDC8-4E60-B378-18338DA4F1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881D8E-C629-4F0C-8CF9-9289F036DD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0999D9-3CC7-40F2-B694-8E26C706EA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0825D5-F651-44BD-BE89-15327D0138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9168A-8CF2-46C7-8436-A58BBFA45F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A91EE-6BA2-471F-82E3-62712A07C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E9BABC-9C00-45BB-BF4F-55B197E3EF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9CD3C0-508F-483F-9555-6FC24CEE0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C7E79-D27D-401B-914F-96BD4BEED5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5AFC-C8A4-4EBD-81DB-61CFE7426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1410-3ED3-4427-8B4E-F9D5770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182D-FA7D-4217-A8DC-F9F95C5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8714-E9C5-44F9-BF8E-49BB32867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3752-2FFC-45D0-9E22-8358F9290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21040-489B-42E6-AE3E-02E06F32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F66B5-9BA1-47AD-9F3A-C11E6E84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F8D1-041E-4E63-BED6-DF806B3A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2FDF5-A722-472C-8BA3-5AE202A6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233FE-9180-481D-B5E9-406A6E2E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ADBC5-E768-4A7D-8E80-5CAB264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568B-B2E1-4173-9CF5-C9F58528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FD319-656A-440D-B110-54FE260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6835C-F548-4455-B777-AF0DD2DC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34198-4155-406A-9A62-60A63E39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1E877-189C-49FE-8998-3CAD8D6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18D5-D338-40D8-8A4D-17578BC32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EF6E-70B5-43DB-BDA7-10C5ACF6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1BE8-A553-42A0-8F4A-D6DD670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4A06-5E48-4FFA-9D51-5784C3D2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6B97-D43B-4665-8EF2-7CF48A8C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12A8-C1E2-4E61-9942-6225414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8A52-CF06-429F-A6D5-C6D2E6B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3DB9-189F-4A83-964F-AB994F5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1FA28-C5BC-4A64-BCAF-D8BA9954F42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A01B3-F9F2-49F5-B4CF-425F85DE223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4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4 год по всем видам расходов  – 14 197,9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14200" y="887400"/>
          <a:ext cx="8788680" cy="5519880"/>
        </p:xfrm>
        <a:graphic>
          <a:graphicData uri="http://schemas.openxmlformats.org/drawingml/2006/table">
            <a:tbl>
              <a:tblPr/>
              <a:tblGrid>
                <a:gridCol w="2909880"/>
                <a:gridCol w="1376640"/>
                <a:gridCol w="1423800"/>
                <a:gridCol w="1332000"/>
                <a:gridCol w="1746360"/>
              </a:tblGrid>
              <a:tr h="30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4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4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3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2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1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56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90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30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25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редства массовой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91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4 год сформированы и утверждены 13 муниципальных программ. Из них 9 муниципальных программ подлежат финансированию. На реализацию принятых муниципальных программ, с учетов внесенных уточнений, в 2014 году  предусмотрено 13 825,5 тыс.рублей, это 97,4 % расходов бюджета по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4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071720"/>
                <a:gridCol w="100008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а за 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4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4200" y="1576440"/>
          <a:ext cx="8572680" cy="3138480"/>
        </p:xfrm>
        <a:graphic>
          <a:graphicData uri="http://schemas.openxmlformats.org/drawingml/2006/table">
            <a:tbl>
              <a:tblPr/>
              <a:tblGrid>
                <a:gridCol w="673200"/>
                <a:gridCol w="4113360"/>
                <a:gridCol w="1000080"/>
                <a:gridCol w="1071360"/>
                <a:gridCol w="928800"/>
                <a:gridCol w="785880"/>
              </a:tblGrid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а за 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77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2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1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4 год по доходам исполнен в сумме 18 486,8 тыс.рублей или 124,2 процента к годовому плану и по расходам в сумме      14 197,8 тыс.рублей или 95,2 процента. Профицит по итогам исполнения бюджета за 2014 год составил 4289,0 тыс.рублей. На увеличение доходной части бюджета Бакланниковского сельского поселения и получения профицита по доходам повлияли поступления в конце года доходов от продажи земельных участ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авнению с аналогичным периодом прошлого года наблюдается увеличение поступления доходов в бюджет поселения на 929,0 тыс.рублей или на 5,3 процентов, по расходам исполнение снизилось на 3519,8 тыс.рублей или 19,9 проц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устройство территори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4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5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295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29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4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ходы бюджета Бакланниковского сельского поселения за 2014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22400" y="1579680"/>
            <a:ext cx="8897760" cy="5270400"/>
            <a:chOff x="122400" y="1579680"/>
            <a:chExt cx="8897760" cy="527040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7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22400" y="1579680"/>
              <a:ext cx="889776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14920" y="2428920"/>
            <a:ext cx="128592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29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143160" y="2428920"/>
            <a:ext cx="12859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77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11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45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7072200" y="5500800"/>
            <a:ext cx="128592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,4 р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7858080" y="4643280"/>
            <a:ext cx="128592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12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3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82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86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857760" y="5857920"/>
            <a:ext cx="121428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4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4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71680" y="461880"/>
            <a:ext cx="822960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  8557,6 тыс.рублей или 174,5 процентов к годовым назначениям. Данный показатель увеличивает уровень аналогичного периода прошлого года в 1,8 раза. Наибольший удельный вес в структуре поступивших за 2014 год собственных доходов занимают доходы, получаемые в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ной платы за земельные участки, государственная собственность на которые не разграничена и которые составили 1164,3 тыс.рублей или 13,6 проц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ая составила         1488,4 тыс.рублей или 17,4 проц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жи земельных участков, государственная собственность на которые не разграничена, и которая составила 4 370,3 тыс.рублей или 51,1 проц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00040" y="23760"/>
            <a:ext cx="82296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ление налоговых и неналоговых доходов за 2014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557,6 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 flipV="1">
            <a:off x="2124000" y="357192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4200" y="2000160"/>
            <a:ext cx="4082760" cy="569880"/>
            <a:chOff x="214200" y="2000160"/>
            <a:chExt cx="4082760" cy="569880"/>
          </a:xfrm>
        </p:grpSpPr>
        <p:sp>
          <p:nvSpPr>
            <p:cNvPr id="130" name="Rectangle 4"/>
            <p:cNvSpPr/>
            <p:nvPr/>
          </p:nvSpPr>
          <p:spPr>
            <a:xfrm>
              <a:off x="3011760" y="2000160"/>
              <a:ext cx="128520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061000" y="2000160"/>
              <a:ext cx="9518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083600" y="2000160"/>
              <a:ext cx="99792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  2013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4200" y="2000160"/>
              <a:ext cx="9406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214200" y="2643120"/>
            <a:ext cx="4073760" cy="569880"/>
            <a:chOff x="214200" y="2643120"/>
            <a:chExt cx="4073760" cy="569880"/>
          </a:xfrm>
        </p:grpSpPr>
        <p:sp>
          <p:nvSpPr>
            <p:cNvPr id="135" name="Rectangle 9"/>
            <p:cNvSpPr/>
            <p:nvPr/>
          </p:nvSpPr>
          <p:spPr>
            <a:xfrm>
              <a:off x="3024360" y="2978280"/>
              <a:ext cx="1261800" cy="231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1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087640" y="2978280"/>
              <a:ext cx="934920" cy="23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318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1149480" y="2978280"/>
              <a:ext cx="938160" cy="23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36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214200" y="2978280"/>
              <a:ext cx="935280" cy="2314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18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14200" y="2643120"/>
              <a:ext cx="4071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214200" y="2643120"/>
              <a:ext cx="407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214200" y="3211560"/>
              <a:ext cx="407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21420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28616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948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208764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302436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22"/>
          <p:cNvSpPr/>
          <p:nvPr/>
        </p:nvSpPr>
        <p:spPr>
          <a:xfrm>
            <a:off x="3000240" y="3714840"/>
            <a:ext cx="1285920" cy="28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2071800" y="3714840"/>
            <a:ext cx="938160" cy="28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+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1143000" y="3714840"/>
            <a:ext cx="93996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28600" y="3714840"/>
            <a:ext cx="925560" cy="285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4200" y="3357720"/>
            <a:ext cx="4067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УПЛАТЫ АКЦИЗОВ НА НЕФТЕ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214200" y="335772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21420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428616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214200" y="371484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1430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20718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8600" y="4567320"/>
            <a:ext cx="40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228600" y="491976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2357280" y="1784520"/>
            <a:ext cx="7858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 flipV="1">
            <a:off x="6070680" y="1784520"/>
            <a:ext cx="8604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8"/>
          <p:cNvGrpSpPr/>
          <p:nvPr/>
        </p:nvGrpSpPr>
        <p:grpSpPr>
          <a:xfrm>
            <a:off x="4857840" y="2714760"/>
            <a:ext cx="4065120" cy="1140840"/>
            <a:chOff x="4857840" y="2714760"/>
            <a:chExt cx="4065120" cy="1140840"/>
          </a:xfrm>
        </p:grpSpPr>
        <p:sp>
          <p:nvSpPr>
            <p:cNvPr id="163" name="Rectangle 39"/>
            <p:cNvSpPr/>
            <p:nvPr/>
          </p:nvSpPr>
          <p:spPr>
            <a:xfrm>
              <a:off x="7661880" y="3450600"/>
              <a:ext cx="1259280" cy="40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2,3 РА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40"/>
            <p:cNvSpPr/>
            <p:nvPr/>
          </p:nvSpPr>
          <p:spPr>
            <a:xfrm>
              <a:off x="6727680" y="3450600"/>
              <a:ext cx="933840" cy="401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+670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5791680" y="3450600"/>
              <a:ext cx="935640" cy="40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526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42"/>
            <p:cNvSpPr/>
            <p:nvPr/>
          </p:nvSpPr>
          <p:spPr>
            <a:xfrm>
              <a:off x="4857840" y="3450600"/>
              <a:ext cx="933840" cy="40176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197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3"/>
            <p:cNvSpPr/>
            <p:nvPr/>
          </p:nvSpPr>
          <p:spPr>
            <a:xfrm>
              <a:off x="4857840" y="2714760"/>
              <a:ext cx="4063680" cy="7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 ОТ ИСПОЛЬЗОВАНИЯ ИМУЩЕСТВА, НАХОДЯЩЕГОСЯ В ГОСУДАРСТВЕННОЙ И МУНИЦИПАЛЬНОЙ СОБСТВЕН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857840" y="3854520"/>
              <a:ext cx="4063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57840" y="2869560"/>
              <a:ext cx="10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>
              <a:off x="8921520" y="2869560"/>
              <a:ext cx="144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>
              <a:off x="4857840" y="34506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791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727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50"/>
            <p:cNvSpPr/>
            <p:nvPr/>
          </p:nvSpPr>
          <p:spPr>
            <a:xfrm>
              <a:off x="7661880" y="345060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Line 51"/>
          <p:cNvSpPr/>
          <p:nvPr/>
        </p:nvSpPr>
        <p:spPr>
          <a:xfrm>
            <a:off x="4859280" y="3833640"/>
            <a:ext cx="4067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4859280" y="498168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>
            <a:off x="4857840" y="4714920"/>
            <a:ext cx="40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14200" y="4071960"/>
            <a:ext cx="4065480" cy="566280"/>
            <a:chOff x="214200" y="4071960"/>
            <a:chExt cx="4065480" cy="566280"/>
          </a:xfrm>
        </p:grpSpPr>
        <p:sp>
          <p:nvSpPr>
            <p:cNvPr id="179" name="Rectangle 55"/>
            <p:cNvSpPr/>
            <p:nvPr/>
          </p:nvSpPr>
          <p:spPr>
            <a:xfrm>
              <a:off x="3018960" y="4404600"/>
              <a:ext cx="1259280" cy="230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9,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2084400" y="4404600"/>
              <a:ext cx="934560" cy="23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2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148760" y="4404600"/>
              <a:ext cx="935640" cy="230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5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8"/>
            <p:cNvSpPr/>
            <p:nvPr/>
          </p:nvSpPr>
          <p:spPr>
            <a:xfrm>
              <a:off x="214200" y="4404600"/>
              <a:ext cx="934560" cy="2304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9"/>
            <p:cNvSpPr/>
            <p:nvPr/>
          </p:nvSpPr>
          <p:spPr>
            <a:xfrm>
              <a:off x="214200" y="4071960"/>
              <a:ext cx="4064400" cy="3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СОВОКУПНЫЙ ДОХО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214200" y="40719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214200" y="46371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214200" y="4071960"/>
              <a:ext cx="144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3"/>
            <p:cNvSpPr/>
            <p:nvPr/>
          </p:nvSpPr>
          <p:spPr>
            <a:xfrm>
              <a:off x="4278600" y="4071960"/>
              <a:ext cx="10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64"/>
            <p:cNvSpPr/>
            <p:nvPr/>
          </p:nvSpPr>
          <p:spPr>
            <a:xfrm>
              <a:off x="214200" y="4404600"/>
              <a:ext cx="406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1487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2084400" y="4404600"/>
              <a:ext cx="14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0189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68"/>
          <p:cNvGrpSpPr/>
          <p:nvPr/>
        </p:nvGrpSpPr>
        <p:grpSpPr>
          <a:xfrm>
            <a:off x="4857840" y="2000160"/>
            <a:ext cx="4069800" cy="569880"/>
            <a:chOff x="4857840" y="2000160"/>
            <a:chExt cx="4069800" cy="569880"/>
          </a:xfrm>
        </p:grpSpPr>
        <p:sp>
          <p:nvSpPr>
            <p:cNvPr id="193" name="Rectangle 69"/>
            <p:cNvSpPr/>
            <p:nvPr/>
          </p:nvSpPr>
          <p:spPr>
            <a:xfrm>
              <a:off x="7697880" y="2000160"/>
              <a:ext cx="122976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0"/>
            <p:cNvSpPr/>
            <p:nvPr/>
          </p:nvSpPr>
          <p:spPr>
            <a:xfrm>
              <a:off x="6731640" y="2000160"/>
              <a:ext cx="9644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1"/>
            <p:cNvSpPr/>
            <p:nvPr/>
          </p:nvSpPr>
          <p:spPr>
            <a:xfrm>
              <a:off x="5742720" y="2000160"/>
              <a:ext cx="98856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2013 год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2"/>
            <p:cNvSpPr/>
            <p:nvPr/>
          </p:nvSpPr>
          <p:spPr>
            <a:xfrm>
              <a:off x="4857840" y="2000160"/>
              <a:ext cx="9532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 2014 год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73"/>
          <p:cNvSpPr/>
          <p:nvPr/>
        </p:nvSpPr>
        <p:spPr>
          <a:xfrm>
            <a:off x="4857840" y="3929040"/>
            <a:ext cx="406872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ПРОДАЖИ МАТЕРИАЛЬНЫХ И НЕМАТЕРИАЛЬНЫХ АКТИВ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4857840" y="4357800"/>
            <a:ext cx="925560" cy="3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610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5786280" y="4357800"/>
            <a:ext cx="939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703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6715080" y="4357800"/>
            <a:ext cx="928800" cy="31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+1907,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7643880" y="4357800"/>
            <a:ext cx="1285920" cy="32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0,6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78"/>
          <p:cNvGrpSpPr/>
          <p:nvPr/>
        </p:nvGrpSpPr>
        <p:grpSpPr>
          <a:xfrm>
            <a:off x="214200" y="4714920"/>
            <a:ext cx="4065480" cy="640800"/>
            <a:chOff x="214200" y="4714920"/>
            <a:chExt cx="4065480" cy="640800"/>
          </a:xfrm>
        </p:grpSpPr>
        <p:sp>
          <p:nvSpPr>
            <p:cNvPr id="203" name="Rectangle 79"/>
            <p:cNvSpPr/>
            <p:nvPr/>
          </p:nvSpPr>
          <p:spPr>
            <a:xfrm>
              <a:off x="3018960" y="50922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24,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0"/>
            <p:cNvSpPr/>
            <p:nvPr/>
          </p:nvSpPr>
          <p:spPr>
            <a:xfrm>
              <a:off x="2084400" y="509220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+126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81"/>
            <p:cNvSpPr/>
            <p:nvPr/>
          </p:nvSpPr>
          <p:spPr>
            <a:xfrm>
              <a:off x="1148760" y="50922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5,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2"/>
            <p:cNvSpPr/>
            <p:nvPr/>
          </p:nvSpPr>
          <p:spPr>
            <a:xfrm>
              <a:off x="214200" y="509220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5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83"/>
            <p:cNvSpPr/>
            <p:nvPr/>
          </p:nvSpPr>
          <p:spPr>
            <a:xfrm>
              <a:off x="214200" y="471492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ИМУЩ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84"/>
            <p:cNvSpPr/>
            <p:nvPr/>
          </p:nvSpPr>
          <p:spPr>
            <a:xfrm>
              <a:off x="214200" y="47149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5"/>
            <p:cNvSpPr/>
            <p:nvPr/>
          </p:nvSpPr>
          <p:spPr>
            <a:xfrm>
              <a:off x="214200" y="535464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86"/>
            <p:cNvSpPr/>
            <p:nvPr/>
          </p:nvSpPr>
          <p:spPr>
            <a:xfrm>
              <a:off x="214200" y="47149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4278600" y="47149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214200" y="50922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89"/>
            <p:cNvSpPr/>
            <p:nvPr/>
          </p:nvSpPr>
          <p:spPr>
            <a:xfrm>
              <a:off x="11487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90"/>
            <p:cNvSpPr/>
            <p:nvPr/>
          </p:nvSpPr>
          <p:spPr>
            <a:xfrm>
              <a:off x="2084400" y="50922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91"/>
            <p:cNvSpPr/>
            <p:nvPr/>
          </p:nvSpPr>
          <p:spPr>
            <a:xfrm>
              <a:off x="30189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92"/>
          <p:cNvGrpSpPr/>
          <p:nvPr/>
        </p:nvGrpSpPr>
        <p:grpSpPr>
          <a:xfrm>
            <a:off x="214200" y="5500800"/>
            <a:ext cx="4065480" cy="640800"/>
            <a:chOff x="214200" y="5500800"/>
            <a:chExt cx="4065480" cy="640800"/>
          </a:xfrm>
        </p:grpSpPr>
        <p:sp>
          <p:nvSpPr>
            <p:cNvPr id="217" name="Rectangle 93"/>
            <p:cNvSpPr/>
            <p:nvPr/>
          </p:nvSpPr>
          <p:spPr>
            <a:xfrm>
              <a:off x="2998080" y="5856120"/>
              <a:ext cx="125964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7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94"/>
            <p:cNvSpPr/>
            <p:nvPr/>
          </p:nvSpPr>
          <p:spPr>
            <a:xfrm>
              <a:off x="2084400" y="587808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95"/>
            <p:cNvSpPr/>
            <p:nvPr/>
          </p:nvSpPr>
          <p:spPr>
            <a:xfrm>
              <a:off x="1148760" y="587808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9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6"/>
            <p:cNvSpPr/>
            <p:nvPr/>
          </p:nvSpPr>
          <p:spPr>
            <a:xfrm>
              <a:off x="214200" y="587808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4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97"/>
            <p:cNvSpPr/>
            <p:nvPr/>
          </p:nvSpPr>
          <p:spPr>
            <a:xfrm>
              <a:off x="214200" y="550080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СУДАРСТВЕННАЯ ПОШЛ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98"/>
            <p:cNvSpPr/>
            <p:nvPr/>
          </p:nvSpPr>
          <p:spPr>
            <a:xfrm>
              <a:off x="214200" y="55008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99"/>
            <p:cNvSpPr/>
            <p:nvPr/>
          </p:nvSpPr>
          <p:spPr>
            <a:xfrm>
              <a:off x="214200" y="61405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00"/>
            <p:cNvSpPr/>
            <p:nvPr/>
          </p:nvSpPr>
          <p:spPr>
            <a:xfrm>
              <a:off x="214200" y="550080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01"/>
            <p:cNvSpPr/>
            <p:nvPr/>
          </p:nvSpPr>
          <p:spPr>
            <a:xfrm>
              <a:off x="4278600" y="550080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02"/>
            <p:cNvSpPr/>
            <p:nvPr/>
          </p:nvSpPr>
          <p:spPr>
            <a:xfrm>
              <a:off x="214200" y="587808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03"/>
            <p:cNvSpPr/>
            <p:nvPr/>
          </p:nvSpPr>
          <p:spPr>
            <a:xfrm>
              <a:off x="11487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104"/>
            <p:cNvSpPr/>
            <p:nvPr/>
          </p:nvSpPr>
          <p:spPr>
            <a:xfrm>
              <a:off x="2084400" y="587808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05"/>
            <p:cNvSpPr/>
            <p:nvPr/>
          </p:nvSpPr>
          <p:spPr>
            <a:xfrm>
              <a:off x="30189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106"/>
          <p:cNvGrpSpPr/>
          <p:nvPr/>
        </p:nvGrpSpPr>
        <p:grpSpPr>
          <a:xfrm>
            <a:off x="4857840" y="4929120"/>
            <a:ext cx="4065120" cy="641160"/>
            <a:chOff x="4857840" y="4929120"/>
            <a:chExt cx="4065120" cy="641160"/>
          </a:xfrm>
        </p:grpSpPr>
        <p:sp>
          <p:nvSpPr>
            <p:cNvPr id="231" name="Rectangle 107"/>
            <p:cNvSpPr/>
            <p:nvPr/>
          </p:nvSpPr>
          <p:spPr>
            <a:xfrm>
              <a:off x="7661880" y="53064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7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08"/>
            <p:cNvSpPr/>
            <p:nvPr/>
          </p:nvSpPr>
          <p:spPr>
            <a:xfrm>
              <a:off x="6727680" y="5306400"/>
              <a:ext cx="93384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2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09"/>
            <p:cNvSpPr/>
            <p:nvPr/>
          </p:nvSpPr>
          <p:spPr>
            <a:xfrm>
              <a:off x="5791680" y="53064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5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4857840" y="5306400"/>
              <a:ext cx="93384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857840" y="4929120"/>
              <a:ext cx="406368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12"/>
            <p:cNvSpPr/>
            <p:nvPr/>
          </p:nvSpPr>
          <p:spPr>
            <a:xfrm>
              <a:off x="4857840" y="492912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13"/>
            <p:cNvSpPr/>
            <p:nvPr/>
          </p:nvSpPr>
          <p:spPr>
            <a:xfrm>
              <a:off x="4857840" y="556884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14"/>
            <p:cNvSpPr/>
            <p:nvPr/>
          </p:nvSpPr>
          <p:spPr>
            <a:xfrm>
              <a:off x="4857840" y="49291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15"/>
            <p:cNvSpPr/>
            <p:nvPr/>
          </p:nvSpPr>
          <p:spPr>
            <a:xfrm>
              <a:off x="8921520" y="49291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16"/>
            <p:cNvSpPr/>
            <p:nvPr/>
          </p:nvSpPr>
          <p:spPr>
            <a:xfrm>
              <a:off x="4857840" y="53064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17"/>
            <p:cNvSpPr/>
            <p:nvPr/>
          </p:nvSpPr>
          <p:spPr>
            <a:xfrm>
              <a:off x="5791680" y="53064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18"/>
            <p:cNvSpPr/>
            <p:nvPr/>
          </p:nvSpPr>
          <p:spPr>
            <a:xfrm>
              <a:off x="6727680" y="53064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9"/>
            <p:cNvSpPr/>
            <p:nvPr/>
          </p:nvSpPr>
          <p:spPr>
            <a:xfrm>
              <a:off x="7661880" y="53064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20"/>
          <p:cNvSpPr/>
          <p:nvPr/>
        </p:nvSpPr>
        <p:spPr>
          <a:xfrm>
            <a:off x="7429680" y="15001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8760" y="28584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4 год исполнены в сумме 9929,3 тыс.рублей или 99,5 процентов к годовому план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4 года Администрации поселения из областного бюджета были выделены  средства по следующим направлениям расход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ервичного воинского учета на территориях где отсутствуют военные комиссариаты – 154,4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автомобильных дорог общего пользования местного значения – 562,435 тыс.рублей, исполнение составило 99,5 процентов или 559,673 тыс.рубле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ышение заработной платы работникам культуры – 212,5 тыс.рублей, исполнение составило 100 процен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детского игрового комплекса в п.Нижний Саловск – 150,0 тыс.рублей, исполнение составило 70,0 процентов или 105,0 тыс.рубл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4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5-05-08T04:49:14Z</dcterms:modified>
  <cp:revision>250</cp:revision>
  <dc:subject/>
  <dc:title>Слайд 1</dc:title>
</cp:coreProperties>
</file>